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42080" cy="990756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741">
                <a:moveTo>
                  <a:pt x="5" y="0"/>
                </a:moveTo>
                <a:arcTo wR="5" hR="5" stAng="16200000" swAng="-5400000"/>
                <a:lnTo>
                  <a:pt x="0" y="31736"/>
                </a:lnTo>
                <a:arcTo wR="5" hR="5" stAng="10800000" swAng="-5400000"/>
                <a:lnTo>
                  <a:pt x="21595" y="3174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DejaVu Sans"/>
              </a:rPr>
              <a:t>ESISAR - IN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21040" y="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0000" cy="3711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898200" y="4705200"/>
            <a:ext cx="49417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3820680" y="941040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1CBFA-5353-4552-BA37-0918D743F264}" type="slidenum">
              <a:rPr b="0" lang="fr-FR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2" name=""/>
          <p:cNvSpPr/>
          <p:nvPr/>
        </p:nvSpPr>
        <p:spPr>
          <a:xfrm>
            <a:off x="382104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15CB0-198C-4FC0-9048-7E54130699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3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324" name="PlaceHolder 2"/>
          <p:cNvSpPr>
            <a:spLocks noGrp="1"/>
          </p:cNvSpPr>
          <p:nvPr>
            <p:ph type="body"/>
          </p:nvPr>
        </p:nvSpPr>
        <p:spPr>
          <a:xfrm>
            <a:off x="898560" y="4704840"/>
            <a:ext cx="49449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5" name=""/>
          <p:cNvSpPr/>
          <p:nvPr/>
        </p:nvSpPr>
        <p:spPr>
          <a:xfrm>
            <a:off x="382104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88FCB-389D-4B08-80AB-BACA3D814E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327" name="PlaceHolder 2"/>
          <p:cNvSpPr>
            <a:spLocks noGrp="1"/>
          </p:cNvSpPr>
          <p:nvPr>
            <p:ph type="body"/>
          </p:nvPr>
        </p:nvSpPr>
        <p:spPr>
          <a:xfrm>
            <a:off x="898560" y="4704840"/>
            <a:ext cx="49449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6" name=""/>
          <p:cNvSpPr/>
          <p:nvPr/>
        </p:nvSpPr>
        <p:spPr>
          <a:xfrm>
            <a:off x="382104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AB82E-19DD-4631-98CA-913A9FFF83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7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318" name="PlaceHolder 2"/>
          <p:cNvSpPr>
            <a:spLocks noGrp="1"/>
          </p:cNvSpPr>
          <p:nvPr>
            <p:ph type="body"/>
          </p:nvPr>
        </p:nvSpPr>
        <p:spPr>
          <a:xfrm>
            <a:off x="898560" y="4704840"/>
            <a:ext cx="49449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8" name=""/>
          <p:cNvSpPr/>
          <p:nvPr/>
        </p:nvSpPr>
        <p:spPr>
          <a:xfrm>
            <a:off x="382104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88647-AE97-4205-AFE2-B3CA61DA30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9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330" name="PlaceHolder 2"/>
          <p:cNvSpPr>
            <a:spLocks noGrp="1"/>
          </p:cNvSpPr>
          <p:nvPr>
            <p:ph type="body"/>
          </p:nvPr>
        </p:nvSpPr>
        <p:spPr>
          <a:xfrm>
            <a:off x="898560" y="4704840"/>
            <a:ext cx="49449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9" name=""/>
          <p:cNvSpPr/>
          <p:nvPr/>
        </p:nvSpPr>
        <p:spPr>
          <a:xfrm>
            <a:off x="382104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C31D5-6794-423E-A25A-EBC3336141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321" name="PlaceHolder 2"/>
          <p:cNvSpPr>
            <a:spLocks noGrp="1"/>
          </p:cNvSpPr>
          <p:nvPr>
            <p:ph type="body"/>
          </p:nvPr>
        </p:nvSpPr>
        <p:spPr>
          <a:xfrm>
            <a:off x="898560" y="4704840"/>
            <a:ext cx="49449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1" name=""/>
          <p:cNvSpPr/>
          <p:nvPr/>
        </p:nvSpPr>
        <p:spPr>
          <a:xfrm>
            <a:off x="3821040" y="941076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41350-E8B6-4B70-86A6-A9FD1AF08B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333" name="PlaceHolder 2"/>
          <p:cNvSpPr>
            <a:spLocks noGrp="1"/>
          </p:cNvSpPr>
          <p:nvPr>
            <p:ph type="body"/>
          </p:nvPr>
        </p:nvSpPr>
        <p:spPr>
          <a:xfrm>
            <a:off x="898560" y="4704840"/>
            <a:ext cx="49449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78E95-72DF-47B5-9E2D-F87760571F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405C5-9027-44F5-B53C-A1DFBC9D2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7D85F-7D54-4ACE-A93D-AD85742E1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9D3D2-514F-441C-ACA2-9C2C12F2F9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09C33-0034-4844-8218-A5247C1D67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1530E-F5D4-400A-917C-A8EC07771A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54BCF-7B16-4F7F-B68B-952F0F46D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7D758-3608-4321-A185-BAF72C365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AE462-534C-49AC-A20B-3E706CD282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B3472-74FA-469F-8C8F-2A3D2FC7C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D515E-B429-4908-AD8B-D73E734BB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7FA5D-EA7C-4BC5-A578-8FDF36284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rocesseur 8051  B.Glo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B251F-8DA0-4E2C-9B05-17069835D6E8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71A34-71BB-40AD-B8A1-6914F631C5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55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63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72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79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83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83880" y="4815000"/>
              <a:ext cx="7930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8 bit Arithmetic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90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97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105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108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117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127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135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144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149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92120" y="372960"/>
            <a:ext cx="392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184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189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198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212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218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222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233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239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246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253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261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277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296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309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312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57880" y="1011240"/>
            <a:ext cx="145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Starting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"/>
          <p:cNvSpPr/>
          <p:nvPr/>
        </p:nvSpPr>
        <p:spPr>
          <a:xfrm>
            <a:off x="46836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EXECUTION OF STM8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1631880" y="2670120"/>
            <a:ext cx="652356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xecution of  ADD A, $09 is achiev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Program counter is ready with the address of the next 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Instruction register contains yet the op code of the achieved 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Accumulator contains the operand:  5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Data bus is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3713040" y="186696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LD A, $0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EXECUTION OF STM8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847800" y="2057400"/>
            <a:ext cx="7772400" cy="3905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Action to be performed by the processor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dd the address 9 content to the accu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embly instruction: 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ADD A, $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achine instruction: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   BB 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 bytes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Direct addressing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B8D56-CAC7-4357-9E20-059378F9A9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0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1821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4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8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1829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5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7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1838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4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1845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7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8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1849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4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1855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1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1862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9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1870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2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1873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77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1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1882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6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1892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6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9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1900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4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8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1909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1914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8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1724400" y="534960"/>
            <a:ext cx="506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DD A, $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8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1949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3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1954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8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0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2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1963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8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1969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4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5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6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1977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1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2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1983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6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1987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3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7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1998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2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3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2004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0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2011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7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2018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3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5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2026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2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6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7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1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2042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8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0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2061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3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2074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6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2077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5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3953160" y="335124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5729400" y="633744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705240" y="633888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2848320" y="45417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3025800" y="1109520"/>
            <a:ext cx="239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1rst exchange : Op Code Fet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5611680" y="244944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1843200" y="362268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8737560" y="5391000"/>
            <a:ext cx="392040" cy="417600"/>
          </a:xfrm>
          <a:prstGeom prst="leftArrow">
            <a:avLst>
              <a:gd name="adj1" fmla="val 50000"/>
              <a:gd name="adj2" fmla="val 25000"/>
            </a:avLst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D8603-C4D6-4F27-AC2F-A8B5FE7C7F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5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2116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9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3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2124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0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2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2133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9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2140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3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2144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9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2150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6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2157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4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2165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7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2168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72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6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2177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1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6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2187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1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4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2195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9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3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2204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8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2209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3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1724400" y="534960"/>
            <a:ext cx="506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DD A, $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3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2244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8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2249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3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5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7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2258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3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2264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9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0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1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2272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6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7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2278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1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2282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8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2293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7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8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2299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5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2306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2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2313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8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2321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7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1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2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2337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3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5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2356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8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2369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1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2372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90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3953160" y="335124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5726160" y="633744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703440" y="633888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2846520" y="45417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2759040" y="1109520"/>
            <a:ext cx="3027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nd exchange : Read the operand addre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5602320" y="24494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1843200" y="362268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8737560" y="5191200"/>
            <a:ext cx="392040" cy="417600"/>
          </a:xfrm>
          <a:prstGeom prst="leftArrow">
            <a:avLst>
              <a:gd name="adj1" fmla="val 50000"/>
              <a:gd name="adj2" fmla="val 25000"/>
            </a:avLst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08A79-6977-41DF-894C-9EB1948E5F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0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2411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4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2419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5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7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2428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4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2435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7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8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2439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4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2445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1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2452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9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2460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2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2463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67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1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2472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6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1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2482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6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9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2490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4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8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2499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3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2504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8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1724400" y="534960"/>
            <a:ext cx="506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DD A, $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8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2539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3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2544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8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0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2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2553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8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2559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4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5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6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2567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1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2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2573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6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2577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3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7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2588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2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3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2594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0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2601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7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2608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3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5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2616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2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6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27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1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2632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8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0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2651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163560" y="41068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3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2664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6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2667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85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3953160" y="335124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5727600" y="63374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D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2759040" y="1109520"/>
            <a:ext cx="3027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3rd exchange : read the oper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5602320" y="24494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1843200" y="362268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765000" y="63468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D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2846520" y="45450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D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474840" y="3608280"/>
            <a:ext cx="46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6134040" y="4032360"/>
            <a:ext cx="285840" cy="399960"/>
          </a:xfrm>
          <a:prstGeom prst="rightArrow">
            <a:avLst>
              <a:gd name="adj1" fmla="val 50000"/>
              <a:gd name="adj2" fmla="val 25000"/>
            </a:avLst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73164-3EF3-44BE-A874-0D66F4392A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6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2707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0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4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2715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1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3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2724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0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2731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3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4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2735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0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2741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7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2748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5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2756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8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2759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3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7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2768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2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7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2778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2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5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2786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0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4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2795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9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2800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4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1724400" y="534960"/>
            <a:ext cx="506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DD A, $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4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2835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9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2840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4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6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8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2849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4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2855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0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1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2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2863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7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8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2869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2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2873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9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3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2884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8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9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2890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6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2897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3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2904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9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1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2912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8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2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23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7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2928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4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6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2947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9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2960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2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2963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81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3953160" y="335124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>
            <a:off x="2759040" y="1109520"/>
            <a:ext cx="3027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ddition of oper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>
            <a:off x="5602320" y="24494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>
            <a:off x="1843200" y="362268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>
            <a:off x="474840" y="3608280"/>
            <a:ext cx="46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>
            <a:off x="1220760" y="5848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>
            <a:off x="917640" y="547380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7981D-8663-4C98-999F-DF2C2B8B42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0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3001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4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8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3009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5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7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3018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4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3025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7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8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3029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4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3035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1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3042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9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3050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52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3053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57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1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3062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6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1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3072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6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9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3080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4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8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3089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3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3094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8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1724400" y="534960"/>
            <a:ext cx="506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DD A, $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8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3129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3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3134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8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0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2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3143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8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3149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4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5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6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3157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1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2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3163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6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3167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3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7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3178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2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3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3184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0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3191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7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3198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3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5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3206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2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6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7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1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3222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8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0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3241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3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3254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6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3257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5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3953160" y="335124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2759040" y="1109520"/>
            <a:ext cx="3027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ddition of oper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5602320" y="24494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>
            <a:off x="1843200" y="362268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>
            <a:off x="474840" y="3608280"/>
            <a:ext cx="46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1220760" y="5848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917640" y="547380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"/>
          <p:cNvSpPr/>
          <p:nvPr/>
        </p:nvSpPr>
        <p:spPr>
          <a:xfrm>
            <a:off x="46836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EXECUTION OF STM8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2412720" y="2670120"/>
            <a:ext cx="65235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xecution of  ADD A, $09 is achieved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Program counter is ready with the address of the next 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Instruction register contains yet the op code of the achieved 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Accumulator contains a part of the sum  : 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CARRY flag is set  because the result needs 9 bits : 13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Data bus is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3713400" y="186696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DD A, $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3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3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EXECUTION OF STM8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847800" y="2057400"/>
            <a:ext cx="7772400" cy="3905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Action to be performed by the processor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ubtract the value  # $25 from the accu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embly instruction: 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SUB A, # $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achine instruction: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   A0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 bytes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mmediate addressing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3CE91-9CE4-46FD-8135-75F64607C4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9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3300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3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7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3308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4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6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3317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3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3324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6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7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3328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3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3334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0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3341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8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3349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51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3352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3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4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5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56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0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3361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5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0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3371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5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8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3379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3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7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3388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2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3393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7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>
            <a:off x="1644480" y="534960"/>
            <a:ext cx="522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SUB A, # $2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7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3428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2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3433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7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9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1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3442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7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3448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3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4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5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3456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0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1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3462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5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3466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2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6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3477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1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2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3483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9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3490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6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3497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2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4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3505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1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15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16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0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3521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7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9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3540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2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3553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5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3556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4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>
            <a:off x="3951360" y="33512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2759040" y="1109520"/>
            <a:ext cx="3027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1rst exchange : Op Code Fet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1843200" y="362268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474840" y="3608280"/>
            <a:ext cx="46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1220760" y="5848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917640" y="547380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8066160" y="50720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8086680" y="488484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5673600" y="24415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8737560" y="4991040"/>
            <a:ext cx="392040" cy="417600"/>
          </a:xfrm>
          <a:prstGeom prst="leftArrow">
            <a:avLst>
              <a:gd name="adj1" fmla="val 50000"/>
              <a:gd name="adj2" fmla="val 25000"/>
            </a:avLst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5727600" y="63374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A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3946680" y="449892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A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3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3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EXECUTION OF STM8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2057400"/>
            <a:ext cx="7772400" cy="406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4 basic instruction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38400" y="4211640"/>
            <a:ext cx="676728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4 basic addressing mod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i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mmed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dexed without off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h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78FF2-29AF-43C9-81A6-6034B5A66F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8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3599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2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6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3607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3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5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3616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2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3623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5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6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3627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2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3633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9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3640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7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3648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0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3651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2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3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4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55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9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3660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4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9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3670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4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7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3678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2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6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3687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1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3692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6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>
            <a:off x="1644480" y="534960"/>
            <a:ext cx="522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SUB A, # $2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6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3727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1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3732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6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8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0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3741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6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3747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2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3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4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3755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9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0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3761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4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3765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1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5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3776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0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1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3782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8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3789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5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3796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1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3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3804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0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4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5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9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3820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6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8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3839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1" name=""/>
          <p:cNvGrpSpPr/>
          <p:nvPr/>
        </p:nvGrpSpPr>
        <p:grpSpPr>
          <a:xfrm>
            <a:off x="8636040" y="2104920"/>
            <a:ext cx="522000" cy="3971520"/>
            <a:chOff x="8636040" y="2104920"/>
            <a:chExt cx="522000" cy="3971520"/>
          </a:xfrm>
        </p:grpSpPr>
        <p:sp>
          <p:nvSpPr>
            <p:cNvPr id="3852" name=""/>
            <p:cNvSpPr/>
            <p:nvPr/>
          </p:nvSpPr>
          <p:spPr>
            <a:xfrm>
              <a:off x="8652960" y="546084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8636040" y="330048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4" name=""/>
            <p:cNvGrpSpPr/>
            <p:nvPr/>
          </p:nvGrpSpPr>
          <p:grpSpPr>
            <a:xfrm>
              <a:off x="8697600" y="2104920"/>
              <a:ext cx="460440" cy="3971520"/>
              <a:chOff x="8697600" y="2104920"/>
              <a:chExt cx="460440" cy="3971520"/>
            </a:xfrm>
          </p:grpSpPr>
          <p:sp>
            <p:nvSpPr>
              <p:cNvPr id="3855" name=""/>
              <p:cNvSpPr/>
              <p:nvPr/>
            </p:nvSpPr>
            <p:spPr>
              <a:xfrm>
                <a:off x="8718120" y="58453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8721360" y="5649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8718120" y="52563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8718120" y="5059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8718120" y="48639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8718120" y="4667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8718120" y="4470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8718120" y="4273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8718120" y="4076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8705880" y="388152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8705880" y="3684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8701200" y="348156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8705880" y="308772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8697960" y="289260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8697600" y="26956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8697600" y="2498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8697600" y="2301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8697600" y="2104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73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"/>
          <p:cNvSpPr/>
          <p:nvPr/>
        </p:nvSpPr>
        <p:spPr>
          <a:xfrm>
            <a:off x="3951360" y="33512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"/>
          <p:cNvSpPr/>
          <p:nvPr/>
        </p:nvSpPr>
        <p:spPr>
          <a:xfrm>
            <a:off x="2759040" y="1109520"/>
            <a:ext cx="3027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nd exchange : Read the oper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"/>
          <p:cNvSpPr/>
          <p:nvPr/>
        </p:nvSpPr>
        <p:spPr>
          <a:xfrm>
            <a:off x="1843200" y="362268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"/>
          <p:cNvSpPr/>
          <p:nvPr/>
        </p:nvSpPr>
        <p:spPr>
          <a:xfrm>
            <a:off x="474840" y="3608280"/>
            <a:ext cx="46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"/>
          <p:cNvSpPr/>
          <p:nvPr/>
        </p:nvSpPr>
        <p:spPr>
          <a:xfrm>
            <a:off x="917640" y="547380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"/>
          <p:cNvSpPr/>
          <p:nvPr/>
        </p:nvSpPr>
        <p:spPr>
          <a:xfrm>
            <a:off x="8066160" y="50720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"/>
          <p:cNvSpPr/>
          <p:nvPr/>
        </p:nvSpPr>
        <p:spPr>
          <a:xfrm>
            <a:off x="8086680" y="488484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5673600" y="24415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"/>
          <p:cNvSpPr/>
          <p:nvPr/>
        </p:nvSpPr>
        <p:spPr>
          <a:xfrm>
            <a:off x="8737560" y="4781520"/>
            <a:ext cx="392040" cy="417600"/>
          </a:xfrm>
          <a:prstGeom prst="leftArrow">
            <a:avLst>
              <a:gd name="adj1" fmla="val 50000"/>
              <a:gd name="adj2" fmla="val 25000"/>
            </a:avLst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"/>
          <p:cNvSpPr/>
          <p:nvPr/>
        </p:nvSpPr>
        <p:spPr>
          <a:xfrm>
            <a:off x="5726160" y="633744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"/>
          <p:cNvSpPr/>
          <p:nvPr/>
        </p:nvSpPr>
        <p:spPr>
          <a:xfrm>
            <a:off x="425520" y="633564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"/>
          <p:cNvSpPr/>
          <p:nvPr/>
        </p:nvSpPr>
        <p:spPr>
          <a:xfrm>
            <a:off x="3967200" y="519120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3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3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079D8-4147-4B0D-A3E7-AFE961E60A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7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3898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1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5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3906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2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4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3915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1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3922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4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5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3926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1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3932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8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3939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6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3947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49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3950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1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2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3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54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8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3959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3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7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8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3969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3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6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3977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1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5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3986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0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3991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5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"/>
          <p:cNvSpPr/>
          <p:nvPr/>
        </p:nvSpPr>
        <p:spPr>
          <a:xfrm>
            <a:off x="1644480" y="534960"/>
            <a:ext cx="522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SUB A, # $2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5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4026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0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4031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5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7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9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4040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5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4046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51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2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3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4054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8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9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4060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3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4064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0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4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4075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9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0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4081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7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4088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4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4095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0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2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4103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9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2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3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14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8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4119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2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5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7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4138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0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4151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3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4154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72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"/>
          <p:cNvSpPr/>
          <p:nvPr/>
        </p:nvSpPr>
        <p:spPr>
          <a:xfrm>
            <a:off x="3951360" y="33512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"/>
          <p:cNvSpPr/>
          <p:nvPr/>
        </p:nvSpPr>
        <p:spPr>
          <a:xfrm>
            <a:off x="2759040" y="1109520"/>
            <a:ext cx="3027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Subtraction of oper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"/>
          <p:cNvSpPr/>
          <p:nvPr/>
        </p:nvSpPr>
        <p:spPr>
          <a:xfrm>
            <a:off x="1843200" y="362268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"/>
          <p:cNvSpPr/>
          <p:nvPr/>
        </p:nvSpPr>
        <p:spPr>
          <a:xfrm>
            <a:off x="474840" y="3608280"/>
            <a:ext cx="46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"/>
          <p:cNvSpPr/>
          <p:nvPr/>
        </p:nvSpPr>
        <p:spPr>
          <a:xfrm>
            <a:off x="8066160" y="50720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"/>
          <p:cNvSpPr/>
          <p:nvPr/>
        </p:nvSpPr>
        <p:spPr>
          <a:xfrm>
            <a:off x="8086680" y="488484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"/>
          <p:cNvSpPr/>
          <p:nvPr/>
        </p:nvSpPr>
        <p:spPr>
          <a:xfrm>
            <a:off x="5673600" y="24415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"/>
          <p:cNvSpPr/>
          <p:nvPr/>
        </p:nvSpPr>
        <p:spPr>
          <a:xfrm>
            <a:off x="1225440" y="584676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0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"/>
          <p:cNvSpPr/>
          <p:nvPr/>
        </p:nvSpPr>
        <p:spPr>
          <a:xfrm>
            <a:off x="917640" y="547380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9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4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8C567-A003-4C2B-9B38-EB55312A4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3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4194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7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1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4202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8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0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4211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7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4218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0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1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4222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7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4228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4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4235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2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4243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45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4246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7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8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9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250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4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4255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9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4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4265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9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2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4273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7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1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4282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6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4287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1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5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"/>
          <p:cNvSpPr/>
          <p:nvPr/>
        </p:nvSpPr>
        <p:spPr>
          <a:xfrm>
            <a:off x="1644480" y="534960"/>
            <a:ext cx="522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SUB A, # $2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1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4322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6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4327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1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3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5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4336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1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4342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7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8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9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4350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4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5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4356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9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4360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6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0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4371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5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6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4377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3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4384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8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0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4391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6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8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4399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5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9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10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4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4415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1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3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4434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6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4447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9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4450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68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9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0" name=""/>
          <p:cNvSpPr/>
          <p:nvPr/>
        </p:nvSpPr>
        <p:spPr>
          <a:xfrm>
            <a:off x="3951360" y="33512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1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2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4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5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6" name=""/>
          <p:cNvSpPr/>
          <p:nvPr/>
        </p:nvSpPr>
        <p:spPr>
          <a:xfrm>
            <a:off x="2244600" y="1109520"/>
            <a:ext cx="3878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Subtraction $25 from the contents of the accumula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"/>
          <p:cNvSpPr/>
          <p:nvPr/>
        </p:nvSpPr>
        <p:spPr>
          <a:xfrm>
            <a:off x="474840" y="3608280"/>
            <a:ext cx="46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8" name=""/>
          <p:cNvSpPr/>
          <p:nvPr/>
        </p:nvSpPr>
        <p:spPr>
          <a:xfrm>
            <a:off x="8066160" y="50720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9" name=""/>
          <p:cNvSpPr/>
          <p:nvPr/>
        </p:nvSpPr>
        <p:spPr>
          <a:xfrm>
            <a:off x="8086680" y="488484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"/>
          <p:cNvSpPr/>
          <p:nvPr/>
        </p:nvSpPr>
        <p:spPr>
          <a:xfrm>
            <a:off x="5673600" y="24415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1" name=""/>
          <p:cNvSpPr/>
          <p:nvPr/>
        </p:nvSpPr>
        <p:spPr>
          <a:xfrm>
            <a:off x="1225440" y="584676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0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"/>
          <p:cNvSpPr/>
          <p:nvPr/>
        </p:nvSpPr>
        <p:spPr>
          <a:xfrm>
            <a:off x="1855800" y="36259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0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3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4" name=""/>
          <p:cNvSpPr/>
          <p:nvPr/>
        </p:nvSpPr>
        <p:spPr>
          <a:xfrm>
            <a:off x="46836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EXECUTION OF STM8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5" name=""/>
          <p:cNvSpPr/>
          <p:nvPr/>
        </p:nvSpPr>
        <p:spPr>
          <a:xfrm>
            <a:off x="1587240" y="2428920"/>
            <a:ext cx="6523560" cy="23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xecution of  SUB  A,  # $25 is achiev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Program counter is ready with the address of the next 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Instruction register contains yet the op code of the achieved  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Accumulator contains  the result :  $0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CARRY flag is reset  because the value is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When a larger number is subtracted from a smaller one, the Carry flag indicates a borr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orrow = / Car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6" name=""/>
          <p:cNvSpPr/>
          <p:nvPr/>
        </p:nvSpPr>
        <p:spPr>
          <a:xfrm>
            <a:off x="3714480" y="1809720"/>
            <a:ext cx="14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SUB A, # $2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7" name=""/>
          <p:cNvSpPr/>
          <p:nvPr/>
        </p:nvSpPr>
        <p:spPr>
          <a:xfrm>
            <a:off x="1870200" y="4849920"/>
            <a:ext cx="5254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’s complement method is us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31          -&gt;        0011  0001                           0011  000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5          -&gt;        0010  0101                      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- 25         -&gt;        1101  1011                           1101  1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C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-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            0000  1100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0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4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4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EXECUTION OF STM8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9" name=""/>
          <p:cNvSpPr/>
          <p:nvPr/>
        </p:nvSpPr>
        <p:spPr>
          <a:xfrm>
            <a:off x="847800" y="2057400"/>
            <a:ext cx="7772400" cy="419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Action to be performed by the processor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dd the memory location value pointed by X to the accu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embly instruction: 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ADD  A,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achine instruction: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   F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1 byte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ndexed without offset addressing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0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74371-AEC4-4B27-9BD5-3060D2B0E7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3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4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4495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8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9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0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2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4503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9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1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4512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8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4519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1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2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4523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8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4529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5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4536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3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4544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46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4547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8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9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0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51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5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4556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0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2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3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4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5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4566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0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3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4574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8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9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0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1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2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4583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7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4588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2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3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4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5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7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8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9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2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7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8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9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0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1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2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3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4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5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6" name=""/>
          <p:cNvSpPr/>
          <p:nvPr/>
        </p:nvSpPr>
        <p:spPr>
          <a:xfrm>
            <a:off x="1785960" y="534960"/>
            <a:ext cx="494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DD A, 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7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9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1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2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4623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27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4628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2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4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6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4637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2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4643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8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9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0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4651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5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6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4657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0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4661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7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9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1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4672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4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6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7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4678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4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4685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1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4692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7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9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4700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6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7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0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1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2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5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4716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9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2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3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4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5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7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8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9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0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1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2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3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4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4735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7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4748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0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4751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69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0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1" name=""/>
          <p:cNvSpPr/>
          <p:nvPr/>
        </p:nvSpPr>
        <p:spPr>
          <a:xfrm>
            <a:off x="3951360" y="3351240"/>
            <a:ext cx="366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F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2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3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4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5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"/>
          <p:cNvSpPr/>
          <p:nvPr/>
        </p:nvSpPr>
        <p:spPr>
          <a:xfrm>
            <a:off x="2759040" y="1109520"/>
            <a:ext cx="3027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1rst exchange : Op Code Fet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"/>
          <p:cNvSpPr/>
          <p:nvPr/>
        </p:nvSpPr>
        <p:spPr>
          <a:xfrm>
            <a:off x="493560" y="35989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"/>
          <p:cNvSpPr/>
          <p:nvPr/>
        </p:nvSpPr>
        <p:spPr>
          <a:xfrm>
            <a:off x="8066160" y="50720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"/>
          <p:cNvSpPr/>
          <p:nvPr/>
        </p:nvSpPr>
        <p:spPr>
          <a:xfrm>
            <a:off x="8086680" y="488484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"/>
          <p:cNvSpPr/>
          <p:nvPr/>
        </p:nvSpPr>
        <p:spPr>
          <a:xfrm>
            <a:off x="5662440" y="245268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"/>
          <p:cNvSpPr/>
          <p:nvPr/>
        </p:nvSpPr>
        <p:spPr>
          <a:xfrm>
            <a:off x="8737560" y="4591080"/>
            <a:ext cx="392040" cy="417600"/>
          </a:xfrm>
          <a:prstGeom prst="leftArrow">
            <a:avLst>
              <a:gd name="adj1" fmla="val 50000"/>
              <a:gd name="adj2" fmla="val 25000"/>
            </a:avLst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"/>
          <p:cNvSpPr/>
          <p:nvPr/>
        </p:nvSpPr>
        <p:spPr>
          <a:xfrm>
            <a:off x="4548240" y="54975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1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"/>
          <p:cNvSpPr/>
          <p:nvPr/>
        </p:nvSpPr>
        <p:spPr>
          <a:xfrm>
            <a:off x="8096400" y="4667400"/>
            <a:ext cx="366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F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"/>
          <p:cNvSpPr/>
          <p:nvPr/>
        </p:nvSpPr>
        <p:spPr>
          <a:xfrm>
            <a:off x="1855800" y="36259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0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"/>
          <p:cNvSpPr/>
          <p:nvPr/>
        </p:nvSpPr>
        <p:spPr>
          <a:xfrm>
            <a:off x="1208160" y="58579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0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"/>
          <p:cNvSpPr/>
          <p:nvPr/>
        </p:nvSpPr>
        <p:spPr>
          <a:xfrm>
            <a:off x="6634080" y="318276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F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"/>
          <p:cNvSpPr/>
          <p:nvPr/>
        </p:nvSpPr>
        <p:spPr>
          <a:xfrm>
            <a:off x="6063840" y="3211560"/>
            <a:ext cx="38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3333cc"/>
                </a:solidFill>
                <a:latin typeface="Arial"/>
              </a:rPr>
              <a:t>1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4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6E643-06CF-45D3-B20D-9FD6BF5C9F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4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4795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8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9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0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2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4803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9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1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4812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8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4819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1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2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4823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8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4829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5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4836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3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4844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46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4847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8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9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0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51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2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3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5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4856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0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1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2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5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4866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0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1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2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3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4874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8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9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0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1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2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4883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7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4888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2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3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4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5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6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7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8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9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0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1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2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3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4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5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6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8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9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0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1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2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3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4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5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6" name=""/>
          <p:cNvSpPr/>
          <p:nvPr/>
        </p:nvSpPr>
        <p:spPr>
          <a:xfrm>
            <a:off x="1785960" y="534960"/>
            <a:ext cx="494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DD A, 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7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8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9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0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1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2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4923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7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4928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2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4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5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6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4937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2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4943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8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9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0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4951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5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6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4957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9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0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4961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7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8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9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0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1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4972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6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7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4978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4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4985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1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4992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7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8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9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5000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6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7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8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9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10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11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2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3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4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5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5016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2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3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4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5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6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7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8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9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0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1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2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3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4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5035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7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5048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0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5051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69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0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1" name=""/>
          <p:cNvSpPr/>
          <p:nvPr/>
        </p:nvSpPr>
        <p:spPr>
          <a:xfrm>
            <a:off x="3951360" y="3351240"/>
            <a:ext cx="366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F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2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3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4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5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6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7" name=""/>
          <p:cNvSpPr/>
          <p:nvPr/>
        </p:nvSpPr>
        <p:spPr>
          <a:xfrm>
            <a:off x="2759040" y="1109520"/>
            <a:ext cx="3027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nd exchange : Read the oper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8" name=""/>
          <p:cNvSpPr/>
          <p:nvPr/>
        </p:nvSpPr>
        <p:spPr>
          <a:xfrm>
            <a:off x="493560" y="361008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F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9" name=""/>
          <p:cNvSpPr/>
          <p:nvPr/>
        </p:nvSpPr>
        <p:spPr>
          <a:xfrm>
            <a:off x="8066160" y="50720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0" name=""/>
          <p:cNvSpPr/>
          <p:nvPr/>
        </p:nvSpPr>
        <p:spPr>
          <a:xfrm>
            <a:off x="8086680" y="488484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1" name=""/>
          <p:cNvSpPr/>
          <p:nvPr/>
        </p:nvSpPr>
        <p:spPr>
          <a:xfrm>
            <a:off x="5649840" y="245268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1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2" name=""/>
          <p:cNvSpPr/>
          <p:nvPr/>
        </p:nvSpPr>
        <p:spPr>
          <a:xfrm>
            <a:off x="6039000" y="3117960"/>
            <a:ext cx="379440" cy="399960"/>
          </a:xfrm>
          <a:prstGeom prst="rightArrow">
            <a:avLst>
              <a:gd name="adj1" fmla="val 50000"/>
              <a:gd name="adj2" fmla="val 25000"/>
            </a:avLst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3" name=""/>
          <p:cNvSpPr/>
          <p:nvPr/>
        </p:nvSpPr>
        <p:spPr>
          <a:xfrm>
            <a:off x="5945040" y="3191040"/>
            <a:ext cx="524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3333cc"/>
                </a:solidFill>
                <a:latin typeface="Arial"/>
              </a:rPr>
              <a:t>1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4" name=""/>
          <p:cNvSpPr/>
          <p:nvPr/>
        </p:nvSpPr>
        <p:spPr>
          <a:xfrm>
            <a:off x="4548240" y="54975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1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5" name=""/>
          <p:cNvSpPr/>
          <p:nvPr/>
        </p:nvSpPr>
        <p:spPr>
          <a:xfrm>
            <a:off x="8096400" y="4667400"/>
            <a:ext cx="366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F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6" name=""/>
          <p:cNvSpPr/>
          <p:nvPr/>
        </p:nvSpPr>
        <p:spPr>
          <a:xfrm>
            <a:off x="1855800" y="36259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0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7" name=""/>
          <p:cNvSpPr/>
          <p:nvPr/>
        </p:nvSpPr>
        <p:spPr>
          <a:xfrm>
            <a:off x="1208160" y="58579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0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8" name=""/>
          <p:cNvSpPr/>
          <p:nvPr/>
        </p:nvSpPr>
        <p:spPr>
          <a:xfrm>
            <a:off x="6634080" y="318276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F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9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5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0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5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5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0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3A676-E9A1-4F39-B674-5E0CD9576C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1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2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3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4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5095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8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9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0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1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2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5103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9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0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1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5112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5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8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5119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1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2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5123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5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6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983880" y="4815000"/>
              <a:ext cx="7930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8 bit Arithmetic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9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5130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1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2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4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5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6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5137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9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0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4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5145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47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5148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9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0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1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152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3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4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5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6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5157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1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2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3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4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5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6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5167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1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2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3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4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5175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9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0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1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2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3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5184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8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5189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3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4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5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6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7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8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9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0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1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2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3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4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6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7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8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9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0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1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2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3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4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5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6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7" name=""/>
          <p:cNvSpPr/>
          <p:nvPr/>
        </p:nvSpPr>
        <p:spPr>
          <a:xfrm>
            <a:off x="1785960" y="534960"/>
            <a:ext cx="494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DD A, 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8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9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0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1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2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3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5224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5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8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5229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3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5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6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7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5238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2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3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5244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9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0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1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5252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6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7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5258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1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5262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8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9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0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1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2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5273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7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8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5279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5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5286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2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5293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8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9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0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5301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5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7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8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9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0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11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2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3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4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5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6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5317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3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4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5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6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7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8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9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0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1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2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3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5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5336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8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5349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51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5352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70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"/>
          <p:cNvSpPr/>
          <p:nvPr/>
        </p:nvSpPr>
        <p:spPr>
          <a:xfrm>
            <a:off x="3951360" y="3351240"/>
            <a:ext cx="366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F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4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5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6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7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8" name=""/>
          <p:cNvSpPr/>
          <p:nvPr/>
        </p:nvSpPr>
        <p:spPr>
          <a:xfrm>
            <a:off x="2759040" y="1109520"/>
            <a:ext cx="3027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ddition of oper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9" name=""/>
          <p:cNvSpPr/>
          <p:nvPr/>
        </p:nvSpPr>
        <p:spPr>
          <a:xfrm>
            <a:off x="493560" y="361476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F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0" name=""/>
          <p:cNvSpPr/>
          <p:nvPr/>
        </p:nvSpPr>
        <p:spPr>
          <a:xfrm>
            <a:off x="8066160" y="50720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1" name=""/>
          <p:cNvSpPr/>
          <p:nvPr/>
        </p:nvSpPr>
        <p:spPr>
          <a:xfrm>
            <a:off x="8086680" y="488484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2" name=""/>
          <p:cNvSpPr/>
          <p:nvPr/>
        </p:nvSpPr>
        <p:spPr>
          <a:xfrm>
            <a:off x="5673600" y="24415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1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3" name=""/>
          <p:cNvSpPr/>
          <p:nvPr/>
        </p:nvSpPr>
        <p:spPr>
          <a:xfrm>
            <a:off x="4548240" y="54975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1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4" name=""/>
          <p:cNvSpPr/>
          <p:nvPr/>
        </p:nvSpPr>
        <p:spPr>
          <a:xfrm>
            <a:off x="8096400" y="4667400"/>
            <a:ext cx="366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F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5" name=""/>
          <p:cNvSpPr/>
          <p:nvPr/>
        </p:nvSpPr>
        <p:spPr>
          <a:xfrm>
            <a:off x="1855800" y="36259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0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6" name=""/>
          <p:cNvSpPr/>
          <p:nvPr/>
        </p:nvSpPr>
        <p:spPr>
          <a:xfrm>
            <a:off x="1255680" y="58579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7" name=""/>
          <p:cNvSpPr/>
          <p:nvPr/>
        </p:nvSpPr>
        <p:spPr>
          <a:xfrm>
            <a:off x="6634080" y="318276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F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8" name=""/>
          <p:cNvSpPr/>
          <p:nvPr/>
        </p:nvSpPr>
        <p:spPr>
          <a:xfrm>
            <a:off x="6063840" y="3211560"/>
            <a:ext cx="38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3333cc"/>
                </a:solidFill>
                <a:latin typeface="Arial"/>
              </a:rPr>
              <a:t>1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9" name=""/>
          <p:cNvSpPr/>
          <p:nvPr/>
        </p:nvSpPr>
        <p:spPr>
          <a:xfrm>
            <a:off x="766800" y="5473800"/>
            <a:ext cx="25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0" name=""/>
          <p:cNvSpPr/>
          <p:nvPr/>
        </p:nvSpPr>
        <p:spPr>
          <a:xfrm>
            <a:off x="917640" y="548640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610506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5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5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1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B817A-D268-45CC-B132-204EDA3F94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2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3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4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5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5396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9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0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1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2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3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5404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0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1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2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5413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9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5420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2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3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5424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9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5430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5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6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5437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9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0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4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5445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47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5448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9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0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1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52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3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4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5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6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5457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1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2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3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4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5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6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5467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8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1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2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3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4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5475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9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0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1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2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3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5484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8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5489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3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4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5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6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7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8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9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0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1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2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3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4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5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6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7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8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9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0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1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2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3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4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5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6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7" name=""/>
          <p:cNvSpPr/>
          <p:nvPr/>
        </p:nvSpPr>
        <p:spPr>
          <a:xfrm>
            <a:off x="1785960" y="534960"/>
            <a:ext cx="494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DD A, 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8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9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0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1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2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3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5524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5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6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8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5529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3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5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6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7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5538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1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3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5544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9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0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1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5552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3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5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6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7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5558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1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5562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8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9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0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1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2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5573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5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6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7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8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5579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0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2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3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4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5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5586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7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8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0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1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2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5593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8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9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0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5601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2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3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6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7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8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9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0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11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12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3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4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5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6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5617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8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0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1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2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3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4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5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6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7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8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9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0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1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2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3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4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5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5636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8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5649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1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5652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70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1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2" name=""/>
          <p:cNvSpPr/>
          <p:nvPr/>
        </p:nvSpPr>
        <p:spPr>
          <a:xfrm>
            <a:off x="3951360" y="3351240"/>
            <a:ext cx="366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F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3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4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5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6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7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8" name=""/>
          <p:cNvSpPr/>
          <p:nvPr/>
        </p:nvSpPr>
        <p:spPr>
          <a:xfrm>
            <a:off x="2759040" y="1109520"/>
            <a:ext cx="3027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ddition of oper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9" name=""/>
          <p:cNvSpPr/>
          <p:nvPr/>
        </p:nvSpPr>
        <p:spPr>
          <a:xfrm>
            <a:off x="493560" y="361476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F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0" name=""/>
          <p:cNvSpPr/>
          <p:nvPr/>
        </p:nvSpPr>
        <p:spPr>
          <a:xfrm>
            <a:off x="8066160" y="50720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1" name=""/>
          <p:cNvSpPr/>
          <p:nvPr/>
        </p:nvSpPr>
        <p:spPr>
          <a:xfrm>
            <a:off x="8086680" y="488484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2" name=""/>
          <p:cNvSpPr/>
          <p:nvPr/>
        </p:nvSpPr>
        <p:spPr>
          <a:xfrm>
            <a:off x="5673600" y="24415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1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3" name=""/>
          <p:cNvSpPr/>
          <p:nvPr/>
        </p:nvSpPr>
        <p:spPr>
          <a:xfrm>
            <a:off x="4548240" y="54975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1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4" name=""/>
          <p:cNvSpPr/>
          <p:nvPr/>
        </p:nvSpPr>
        <p:spPr>
          <a:xfrm>
            <a:off x="8096400" y="4667400"/>
            <a:ext cx="366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F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5" name=""/>
          <p:cNvSpPr/>
          <p:nvPr/>
        </p:nvSpPr>
        <p:spPr>
          <a:xfrm>
            <a:off x="1855800" y="36259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6" name=""/>
          <p:cNvSpPr/>
          <p:nvPr/>
        </p:nvSpPr>
        <p:spPr>
          <a:xfrm>
            <a:off x="1255680" y="58579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7" name=""/>
          <p:cNvSpPr/>
          <p:nvPr/>
        </p:nvSpPr>
        <p:spPr>
          <a:xfrm>
            <a:off x="6634080" y="318276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F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8" name=""/>
          <p:cNvSpPr/>
          <p:nvPr/>
        </p:nvSpPr>
        <p:spPr>
          <a:xfrm>
            <a:off x="6063840" y="3211560"/>
            <a:ext cx="38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3333cc"/>
                </a:solidFill>
                <a:latin typeface="Arial"/>
              </a:rPr>
              <a:t>1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9" name=""/>
          <p:cNvSpPr/>
          <p:nvPr/>
        </p:nvSpPr>
        <p:spPr>
          <a:xfrm>
            <a:off x="766800" y="5473800"/>
            <a:ext cx="25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0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1" name=""/>
          <p:cNvSpPr/>
          <p:nvPr/>
        </p:nvSpPr>
        <p:spPr>
          <a:xfrm>
            <a:off x="917640" y="548640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610506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2" name=""/>
          <p:cNvSpPr/>
          <p:nvPr/>
        </p:nvSpPr>
        <p:spPr>
          <a:xfrm>
            <a:off x="46836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EXECUTION OF STM8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3" name=""/>
          <p:cNvSpPr/>
          <p:nvPr/>
        </p:nvSpPr>
        <p:spPr>
          <a:xfrm>
            <a:off x="2412720" y="2706840"/>
            <a:ext cx="6523560" cy="27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xecution of  ADD A, (X) is achieved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Program counter is ready with the address of the next 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Instruction register contains yet the op code of the achieved 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Accumulator contains the sum : 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ZERO flag is set  because the result  is equal to z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C flag is set because the result is over 0x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Data bus is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4" name=""/>
          <p:cNvSpPr/>
          <p:nvPr/>
        </p:nvSpPr>
        <p:spPr>
          <a:xfrm>
            <a:off x="3713040" y="186696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DD A, (X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5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5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EXECUTION OF STM8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47800" y="2057400"/>
            <a:ext cx="7772400" cy="3905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Action to be performed by the processor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py the address 8 content into the accu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embly instruction: 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LD A, $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achine instruction: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   B6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 bytes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Direct addressing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EXECUTION OF STM8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6" name=""/>
          <p:cNvSpPr/>
          <p:nvPr/>
        </p:nvSpPr>
        <p:spPr>
          <a:xfrm>
            <a:off x="847800" y="2057400"/>
            <a:ext cx="7772400" cy="3905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Action to be performed by the processor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crement the content of X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embly instruction: 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INCW 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achine instruction: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   5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1 byte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nherent addressing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7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C030F-19A7-402F-B5FC-AB6728B6C1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8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9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0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1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5702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5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7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8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9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5710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6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7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8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5719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2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5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5726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8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9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5730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2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3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983880" y="4815000"/>
              <a:ext cx="7930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8 bit Arithmetic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6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5737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9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3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5744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6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1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5752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54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5755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6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7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8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59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0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1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2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3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5764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5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8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9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0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1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2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3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5774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5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6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8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9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0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1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5782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6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7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8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9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0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5791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5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5796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0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1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2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3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4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5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6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7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8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9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0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1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2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3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4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5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6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7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8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9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0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1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2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3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4" name=""/>
          <p:cNvSpPr/>
          <p:nvPr/>
        </p:nvSpPr>
        <p:spPr>
          <a:xfrm>
            <a:off x="1931760" y="534960"/>
            <a:ext cx="465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INCW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5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6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7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8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9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0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5831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2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3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35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5836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0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2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3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4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5845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8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9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0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5851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56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7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8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5859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3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4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5865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8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5869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5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6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7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8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9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5880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4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5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5886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7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9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2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5893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5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8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9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5900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5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6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7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5908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9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0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2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3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4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5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6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7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18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19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0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1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2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3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5924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5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7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8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9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0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1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2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3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4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5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6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7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8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9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0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1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2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5943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5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5956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8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5959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77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8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9" name=""/>
          <p:cNvSpPr/>
          <p:nvPr/>
        </p:nvSpPr>
        <p:spPr>
          <a:xfrm>
            <a:off x="3951360" y="33512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5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0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1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2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3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4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5" name=""/>
          <p:cNvSpPr/>
          <p:nvPr/>
        </p:nvSpPr>
        <p:spPr>
          <a:xfrm>
            <a:off x="2759040" y="1109520"/>
            <a:ext cx="3027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1rst exchange : Op Code Fet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6" name=""/>
          <p:cNvSpPr/>
          <p:nvPr/>
        </p:nvSpPr>
        <p:spPr>
          <a:xfrm>
            <a:off x="493560" y="361476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F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7" name=""/>
          <p:cNvSpPr/>
          <p:nvPr/>
        </p:nvSpPr>
        <p:spPr>
          <a:xfrm>
            <a:off x="8066160" y="50720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8" name=""/>
          <p:cNvSpPr/>
          <p:nvPr/>
        </p:nvSpPr>
        <p:spPr>
          <a:xfrm>
            <a:off x="8086680" y="488484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9" name=""/>
          <p:cNvSpPr/>
          <p:nvPr/>
        </p:nvSpPr>
        <p:spPr>
          <a:xfrm>
            <a:off x="5673600" y="24415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0" name=""/>
          <p:cNvSpPr/>
          <p:nvPr/>
        </p:nvSpPr>
        <p:spPr>
          <a:xfrm>
            <a:off x="4548240" y="54975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1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1" name=""/>
          <p:cNvSpPr/>
          <p:nvPr/>
        </p:nvSpPr>
        <p:spPr>
          <a:xfrm>
            <a:off x="8096400" y="4667400"/>
            <a:ext cx="366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F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2" name=""/>
          <p:cNvSpPr/>
          <p:nvPr/>
        </p:nvSpPr>
        <p:spPr>
          <a:xfrm>
            <a:off x="1855800" y="36259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3" name=""/>
          <p:cNvSpPr/>
          <p:nvPr/>
        </p:nvSpPr>
        <p:spPr>
          <a:xfrm>
            <a:off x="1255680" y="58579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4" name=""/>
          <p:cNvSpPr/>
          <p:nvPr/>
        </p:nvSpPr>
        <p:spPr>
          <a:xfrm>
            <a:off x="6634080" y="318276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F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5" name=""/>
          <p:cNvSpPr/>
          <p:nvPr/>
        </p:nvSpPr>
        <p:spPr>
          <a:xfrm>
            <a:off x="6063840" y="3211560"/>
            <a:ext cx="38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3333cc"/>
                </a:solidFill>
                <a:latin typeface="Arial"/>
              </a:rPr>
              <a:t>1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6" name=""/>
          <p:cNvSpPr/>
          <p:nvPr/>
        </p:nvSpPr>
        <p:spPr>
          <a:xfrm>
            <a:off x="766800" y="5473800"/>
            <a:ext cx="25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7" name=""/>
          <p:cNvSpPr/>
          <p:nvPr/>
        </p:nvSpPr>
        <p:spPr>
          <a:xfrm>
            <a:off x="8086680" y="44766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5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8" name=""/>
          <p:cNvSpPr/>
          <p:nvPr/>
        </p:nvSpPr>
        <p:spPr>
          <a:xfrm>
            <a:off x="8737560" y="4400640"/>
            <a:ext cx="392040" cy="417600"/>
          </a:xfrm>
          <a:prstGeom prst="leftArrow">
            <a:avLst>
              <a:gd name="adj1" fmla="val 50000"/>
              <a:gd name="adj2" fmla="val 25000"/>
            </a:avLst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9" name=""/>
          <p:cNvSpPr/>
          <p:nvPr/>
        </p:nvSpPr>
        <p:spPr>
          <a:xfrm>
            <a:off x="2846520" y="539892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5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0" name=""/>
          <p:cNvSpPr/>
          <p:nvPr/>
        </p:nvSpPr>
        <p:spPr>
          <a:xfrm>
            <a:off x="5800680" y="63324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5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1" name=""/>
          <p:cNvSpPr/>
          <p:nvPr/>
        </p:nvSpPr>
        <p:spPr>
          <a:xfrm>
            <a:off x="917640" y="548640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610506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5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7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5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5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6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5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2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06C2C-A84E-437B-82CC-036ADFE9E4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3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4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5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6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6007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0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1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2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3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4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6015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7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1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2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3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6024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0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6031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3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4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6035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7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983880" y="4815000"/>
              <a:ext cx="7930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8 bit Arithmetic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1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6042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3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6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8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6049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1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2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6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6057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9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6060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1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2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3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64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5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6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7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8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6069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0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2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3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4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5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6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7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8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6079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0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1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3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4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5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6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6087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1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2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3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4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5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6096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0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6101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5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6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7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8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9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0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1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2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3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4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5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6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7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8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9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0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1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2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3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4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5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6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7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8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9" name=""/>
          <p:cNvSpPr/>
          <p:nvPr/>
        </p:nvSpPr>
        <p:spPr>
          <a:xfrm>
            <a:off x="1931760" y="534960"/>
            <a:ext cx="465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INCW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0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1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2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3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4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5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6136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7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8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40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6141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45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7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8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9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6150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4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5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6156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1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2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3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6164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5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7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8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9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6170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2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3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6174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5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6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7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9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0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1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2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3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4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6185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7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8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9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0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6191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2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4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5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6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7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6198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9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0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2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3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4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6205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0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1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2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6213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4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5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7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8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9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0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1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2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23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24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5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6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7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8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6229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0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2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3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4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5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6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7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8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9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0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1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2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3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4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5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6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7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6248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0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6261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3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6264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82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3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4" name=""/>
          <p:cNvSpPr/>
          <p:nvPr/>
        </p:nvSpPr>
        <p:spPr>
          <a:xfrm>
            <a:off x="3951360" y="33512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5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5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6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7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8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9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0" name=""/>
          <p:cNvSpPr/>
          <p:nvPr/>
        </p:nvSpPr>
        <p:spPr>
          <a:xfrm>
            <a:off x="2759040" y="1109520"/>
            <a:ext cx="3027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Increment the contents of X poi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1" name=""/>
          <p:cNvSpPr/>
          <p:nvPr/>
        </p:nvSpPr>
        <p:spPr>
          <a:xfrm>
            <a:off x="493560" y="361476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F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2" name=""/>
          <p:cNvSpPr/>
          <p:nvPr/>
        </p:nvSpPr>
        <p:spPr>
          <a:xfrm>
            <a:off x="8066160" y="50720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3" name=""/>
          <p:cNvSpPr/>
          <p:nvPr/>
        </p:nvSpPr>
        <p:spPr>
          <a:xfrm>
            <a:off x="8086680" y="488484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4" name=""/>
          <p:cNvSpPr/>
          <p:nvPr/>
        </p:nvSpPr>
        <p:spPr>
          <a:xfrm>
            <a:off x="5673600" y="24415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5" name=""/>
          <p:cNvSpPr/>
          <p:nvPr/>
        </p:nvSpPr>
        <p:spPr>
          <a:xfrm>
            <a:off x="4548240" y="54975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6" name=""/>
          <p:cNvSpPr/>
          <p:nvPr/>
        </p:nvSpPr>
        <p:spPr>
          <a:xfrm>
            <a:off x="8096400" y="4667400"/>
            <a:ext cx="366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F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7" name=""/>
          <p:cNvSpPr/>
          <p:nvPr/>
        </p:nvSpPr>
        <p:spPr>
          <a:xfrm>
            <a:off x="1855800" y="36259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8" name=""/>
          <p:cNvSpPr/>
          <p:nvPr/>
        </p:nvSpPr>
        <p:spPr>
          <a:xfrm>
            <a:off x="1255680" y="58579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9" name=""/>
          <p:cNvSpPr/>
          <p:nvPr/>
        </p:nvSpPr>
        <p:spPr>
          <a:xfrm>
            <a:off x="6634080" y="318276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F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0" name=""/>
          <p:cNvSpPr/>
          <p:nvPr/>
        </p:nvSpPr>
        <p:spPr>
          <a:xfrm>
            <a:off x="6063840" y="3211560"/>
            <a:ext cx="38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3333cc"/>
                </a:solidFill>
                <a:latin typeface="Arial"/>
              </a:rPr>
              <a:t>1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1" name=""/>
          <p:cNvSpPr/>
          <p:nvPr/>
        </p:nvSpPr>
        <p:spPr>
          <a:xfrm>
            <a:off x="766800" y="5473800"/>
            <a:ext cx="25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2" name=""/>
          <p:cNvSpPr/>
          <p:nvPr/>
        </p:nvSpPr>
        <p:spPr>
          <a:xfrm>
            <a:off x="8086680" y="44766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5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3" name=""/>
          <p:cNvSpPr/>
          <p:nvPr/>
        </p:nvSpPr>
        <p:spPr>
          <a:xfrm>
            <a:off x="8080200" y="4287960"/>
            <a:ext cx="35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8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4" name=""/>
          <p:cNvSpPr/>
          <p:nvPr/>
        </p:nvSpPr>
        <p:spPr>
          <a:xfrm>
            <a:off x="917640" y="548640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610506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9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6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5" name=""/>
          <p:cNvSpPr/>
          <p:nvPr/>
        </p:nvSpPr>
        <p:spPr>
          <a:xfrm>
            <a:off x="46836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EXECUTION OF STM8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6" name=""/>
          <p:cNvSpPr/>
          <p:nvPr/>
        </p:nvSpPr>
        <p:spPr>
          <a:xfrm>
            <a:off x="1195560" y="2670120"/>
            <a:ext cx="791352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xecution of  INCW  X is achieved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n order to perform this incrementation, a 16-bit adder is integrated to the Addressing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Noto Sans CJK SC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ZERO flag is resetted because the result ($200) is not equal to z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C flag keeps its previous state because INCW does not affect Carry 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7" name=""/>
          <p:cNvSpPr/>
          <p:nvPr/>
        </p:nvSpPr>
        <p:spPr>
          <a:xfrm>
            <a:off x="3715200" y="1866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INCW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8" name=""/>
          <p:cNvSpPr/>
          <p:nvPr/>
        </p:nvSpPr>
        <p:spPr>
          <a:xfrm>
            <a:off x="1955880" y="4059360"/>
            <a:ext cx="525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9" name=""/>
          <p:cNvSpPr/>
          <p:nvPr/>
        </p:nvSpPr>
        <p:spPr>
          <a:xfrm>
            <a:off x="1615680" y="4367160"/>
            <a:ext cx="499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ow is the the content of the Program Counter increment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0" name=""/>
          <p:cNvSpPr/>
          <p:nvPr/>
        </p:nvSpPr>
        <p:spPr>
          <a:xfrm>
            <a:off x="2855880" y="4875120"/>
            <a:ext cx="27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he same 16-bit adder is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6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0" fill="hold"/>
                                        <p:tgtEl>
                                          <p:spTgt spid="6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1" name=""/>
          <p:cNvSpPr/>
          <p:nvPr/>
        </p:nvSpPr>
        <p:spPr>
          <a:xfrm>
            <a:off x="46836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EXECUTION OF STM8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2" name=""/>
          <p:cNvSpPr/>
          <p:nvPr/>
        </p:nvSpPr>
        <p:spPr>
          <a:xfrm>
            <a:off x="1870200" y="2670120"/>
            <a:ext cx="426384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D A, direc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               B6 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DD A, direc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               BB 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DD A, indexed without offse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UB A, immediat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                A0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per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CW  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                                  5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3" name=""/>
          <p:cNvSpPr/>
          <p:nvPr/>
        </p:nvSpPr>
        <p:spPr>
          <a:xfrm>
            <a:off x="3718080" y="186696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4" name=""/>
          <p:cNvSpPr/>
          <p:nvPr/>
        </p:nvSpPr>
        <p:spPr>
          <a:xfrm>
            <a:off x="1955880" y="4059360"/>
            <a:ext cx="525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5" name=""/>
          <p:cNvSpPr/>
          <p:nvPr/>
        </p:nvSpPr>
        <p:spPr>
          <a:xfrm>
            <a:off x="2855880" y="4875120"/>
            <a:ext cx="27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he same 16-bit adder is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3000" fill="hold"/>
                                        <p:tgtEl>
                                          <p:spTgt spid="6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6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6ECB3-FCF5-47F1-ADC8-C4BBC2932F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348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356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365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372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376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382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389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397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9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400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4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409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419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427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436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441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08280" y="534960"/>
            <a:ext cx="489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LD A, $0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476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481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490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496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504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510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514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525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531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538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545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553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3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4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569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588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601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604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2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951360" y="33512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727600" y="63374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03440" y="633888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836800" y="454176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025800" y="1109520"/>
            <a:ext cx="239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1rst exchange : Op Code Fet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640480" y="24494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737560" y="5781600"/>
            <a:ext cx="392040" cy="417600"/>
          </a:xfrm>
          <a:prstGeom prst="leftArrow">
            <a:avLst>
              <a:gd name="adj1" fmla="val 50000"/>
              <a:gd name="adj2" fmla="val 25000"/>
            </a:avLst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917640" y="54799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68EB5-5803-4BB0-BD58-22B94A53F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643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651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660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667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671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677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684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692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4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695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99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704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714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722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731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736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808280" y="534960"/>
            <a:ext cx="489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LD A, $0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771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776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785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0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791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799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805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809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820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826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833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840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848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8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9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864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883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896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899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7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951360" y="33512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727600" y="633744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03440" y="633888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855880" y="45417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438280" y="1077840"/>
            <a:ext cx="361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nd exchange : Read the operand addre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640480" y="24494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8745480" y="5560920"/>
            <a:ext cx="393840" cy="417600"/>
          </a:xfrm>
          <a:prstGeom prst="leftArrow">
            <a:avLst>
              <a:gd name="adj1" fmla="val 50000"/>
              <a:gd name="adj2" fmla="val 25000"/>
            </a:avLst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79BE7-D6BA-42B1-BC1A-DF005AB3B0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937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0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945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954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961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965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971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978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986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8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989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93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998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1008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2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1016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1025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1030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808280" y="534960"/>
            <a:ext cx="489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LD A, $0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1065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1070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4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6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1079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4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1085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0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1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1093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1099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1103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9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1114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8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1120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1127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1134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1142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2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3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1158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1177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1190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2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1193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1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951360" y="33512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5727600" y="633744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703440" y="633888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2855880" y="45417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2438280" y="1077840"/>
            <a:ext cx="361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nd exchange : Read the operand addre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5640480" y="24494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B5F15-0644-4675-BF0F-A853771AA9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1230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3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7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1238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6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1247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1254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6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1258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1264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1271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8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1279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1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1282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86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1291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5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0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1301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1309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3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1318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1323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7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808280" y="534960"/>
            <a:ext cx="489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LD A, $0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7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1358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1363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7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9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1372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7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1378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3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4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1386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0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1392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1396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2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6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1407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1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1413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1420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6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1427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2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4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1435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1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5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6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0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1451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9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1470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2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1483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1486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4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3951360" y="33512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5727600" y="63374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5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703440" y="633888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5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2846520" y="454176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5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3025800" y="1109520"/>
            <a:ext cx="239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3rd exchange : read the oper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640480" y="24494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843200" y="362268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6134040" y="4241880"/>
            <a:ext cx="285840" cy="399960"/>
          </a:xfrm>
          <a:prstGeom prst="rightArrow">
            <a:avLst>
              <a:gd name="adj1" fmla="val 50000"/>
              <a:gd name="adj2" fmla="val 25000"/>
            </a:avLst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"/>
          <p:cNvSpPr/>
          <p:nvPr/>
        </p:nvSpPr>
        <p:spPr>
          <a:xfrm>
            <a:off x="6778800" y="6488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718B4-BA94-4528-80F5-EAE1390384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1969920" y="385920"/>
            <a:ext cx="533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4486320" y="475452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4486320" y="5486400"/>
            <a:ext cx="663480" cy="2984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5609520" y="1967040"/>
            <a:ext cx="609480" cy="494640"/>
            <a:chOff x="5609520" y="1967040"/>
            <a:chExt cx="609480" cy="494640"/>
          </a:xfrm>
        </p:grpSpPr>
        <p:sp>
          <p:nvSpPr>
            <p:cNvPr id="1525" name=""/>
            <p:cNvSpPr/>
            <p:nvPr/>
          </p:nvSpPr>
          <p:spPr>
            <a:xfrm>
              <a:off x="5614200" y="2106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609880" y="2230560"/>
              <a:ext cx="60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609520" y="1967040"/>
              <a:ext cx="59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4227480" y="5038560"/>
            <a:ext cx="10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4406760" y="5748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dex Register 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4446720" y="32828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3747960" y="3303720"/>
            <a:ext cx="758880" cy="358560"/>
          </a:xfrm>
          <a:prstGeom prst="rect">
            <a:avLst/>
          </a:prstGeom>
          <a:solidFill>
            <a:srgbClr val="ffffff"/>
          </a:solidFill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2" name=""/>
          <p:cNvGrpSpPr/>
          <p:nvPr/>
        </p:nvGrpSpPr>
        <p:grpSpPr>
          <a:xfrm>
            <a:off x="3920760" y="3089160"/>
            <a:ext cx="401760" cy="198720"/>
            <a:chOff x="3920760" y="3089160"/>
            <a:chExt cx="401760" cy="198720"/>
          </a:xfrm>
        </p:grpSpPr>
        <p:sp>
          <p:nvSpPr>
            <p:cNvPr id="1533" name=""/>
            <p:cNvSpPr/>
            <p:nvPr/>
          </p:nvSpPr>
          <p:spPr>
            <a:xfrm flipH="1">
              <a:off x="3920760" y="3089160"/>
              <a:ext cx="20124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122360" y="3089160"/>
              <a:ext cx="196920" cy="986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4220280" y="319104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923640" y="3191040"/>
              <a:ext cx="9792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22208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023000" y="3191040"/>
              <a:ext cx="0" cy="968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9" name=""/>
          <p:cNvSpPr/>
          <p:nvPr/>
        </p:nvSpPr>
        <p:spPr>
          <a:xfrm flipV="1">
            <a:off x="3722760" y="2263680"/>
            <a:ext cx="144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 flipV="1">
            <a:off x="4533840" y="2263680"/>
            <a:ext cx="1800" cy="20952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1" name=""/>
          <p:cNvGrpSpPr/>
          <p:nvPr/>
        </p:nvGrpSpPr>
        <p:grpSpPr>
          <a:xfrm>
            <a:off x="2952720" y="1459080"/>
            <a:ext cx="2319480" cy="812160"/>
            <a:chOff x="2952720" y="1459080"/>
            <a:chExt cx="2319480" cy="812160"/>
          </a:xfrm>
        </p:grpSpPr>
        <p:sp>
          <p:nvSpPr>
            <p:cNvPr id="1542" name=""/>
            <p:cNvSpPr/>
            <p:nvPr/>
          </p:nvSpPr>
          <p:spPr>
            <a:xfrm>
              <a:off x="3830760" y="1794600"/>
              <a:ext cx="67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equ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538520" y="2268360"/>
              <a:ext cx="7336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963880" y="2268360"/>
              <a:ext cx="7668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V="1">
              <a:off x="2959200" y="145908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952720" y="1461960"/>
              <a:ext cx="23065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265720" y="1461960"/>
              <a:ext cx="0" cy="80928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"/>
          <p:cNvGrpSpPr/>
          <p:nvPr/>
        </p:nvGrpSpPr>
        <p:grpSpPr>
          <a:xfrm>
            <a:off x="3656160" y="2470320"/>
            <a:ext cx="939600" cy="606240"/>
            <a:chOff x="3656160" y="2470320"/>
            <a:chExt cx="939600" cy="606240"/>
          </a:xfrm>
        </p:grpSpPr>
        <p:sp>
          <p:nvSpPr>
            <p:cNvPr id="1549" name=""/>
            <p:cNvSpPr/>
            <p:nvPr/>
          </p:nvSpPr>
          <p:spPr>
            <a:xfrm>
              <a:off x="3656160" y="2470320"/>
              <a:ext cx="939600" cy="60624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831480" y="2608200"/>
              <a:ext cx="58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"/>
          <p:cNvSpPr/>
          <p:nvPr/>
        </p:nvSpPr>
        <p:spPr>
          <a:xfrm>
            <a:off x="339840" y="4194000"/>
            <a:ext cx="798480" cy="117000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2" name=""/>
          <p:cNvGrpSpPr/>
          <p:nvPr/>
        </p:nvGrpSpPr>
        <p:grpSpPr>
          <a:xfrm>
            <a:off x="966960" y="4179960"/>
            <a:ext cx="1477800" cy="1173240"/>
            <a:chOff x="966960" y="4179960"/>
            <a:chExt cx="1477800" cy="1173240"/>
          </a:xfrm>
        </p:grpSpPr>
        <p:sp>
          <p:nvSpPr>
            <p:cNvPr id="1553" name=""/>
            <p:cNvSpPr/>
            <p:nvPr/>
          </p:nvSpPr>
          <p:spPr>
            <a:xfrm>
              <a:off x="1719360" y="4189320"/>
              <a:ext cx="72540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966960" y="4184640"/>
              <a:ext cx="372960" cy="569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V="1">
              <a:off x="1336680" y="4179960"/>
              <a:ext cx="385920" cy="57456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1725480" y="4182840"/>
              <a:ext cx="719280" cy="116352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120680" y="5353200"/>
              <a:ext cx="61272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8" name=""/>
          <p:cNvGrpSpPr/>
          <p:nvPr/>
        </p:nvGrpSpPr>
        <p:grpSpPr>
          <a:xfrm>
            <a:off x="1218960" y="6178680"/>
            <a:ext cx="406440" cy="209160"/>
            <a:chOff x="1218960" y="6178680"/>
            <a:chExt cx="406440" cy="209160"/>
          </a:xfrm>
        </p:grpSpPr>
        <p:sp>
          <p:nvSpPr>
            <p:cNvPr id="1559" name=""/>
            <p:cNvSpPr/>
            <p:nvPr/>
          </p:nvSpPr>
          <p:spPr>
            <a:xfrm flipH="1" flipV="1">
              <a:off x="1218960" y="6278400"/>
              <a:ext cx="206280" cy="10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V="1">
              <a:off x="1425600" y="6286320"/>
              <a:ext cx="196560" cy="1011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1521720" y="6280200"/>
              <a:ext cx="103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222200" y="6275520"/>
              <a:ext cx="943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V="1">
              <a:off x="1526400" y="618300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V="1">
              <a:off x="1326240" y="6178680"/>
              <a:ext cx="0" cy="101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1714680" y="3201840"/>
            <a:ext cx="1390320" cy="3191040"/>
            <a:chOff x="1714680" y="3201840"/>
            <a:chExt cx="1390320" cy="3191040"/>
          </a:xfrm>
        </p:grpSpPr>
        <p:sp>
          <p:nvSpPr>
            <p:cNvPr id="1566" name=""/>
            <p:cNvSpPr/>
            <p:nvPr/>
          </p:nvSpPr>
          <p:spPr>
            <a:xfrm rot="5400000">
              <a:off x="1927800" y="3897720"/>
              <a:ext cx="237960" cy="335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805040" y="5896080"/>
              <a:ext cx="6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V="1">
              <a:off x="3105000" y="3205080"/>
              <a:ext cx="0" cy="3184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928240" y="3375000"/>
              <a:ext cx="6120" cy="3017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714680" y="3591000"/>
              <a:ext cx="671760" cy="35388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960200" y="3201840"/>
              <a:ext cx="1141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129760" y="3371760"/>
              <a:ext cx="798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3" name=""/>
            <p:cNvGrpSpPr/>
            <p:nvPr/>
          </p:nvGrpSpPr>
          <p:grpSpPr>
            <a:xfrm>
              <a:off x="1863360" y="3208320"/>
              <a:ext cx="371880" cy="367560"/>
              <a:chOff x="1863360" y="3208320"/>
              <a:chExt cx="371880" cy="367560"/>
            </a:xfrm>
          </p:grpSpPr>
          <p:sp>
            <p:nvSpPr>
              <p:cNvPr id="1574" name=""/>
              <p:cNvSpPr/>
              <p:nvPr/>
            </p:nvSpPr>
            <p:spPr>
              <a:xfrm flipV="1">
                <a:off x="2130840" y="3372120"/>
                <a:ext cx="0" cy="1040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V="1">
                <a:off x="1958400" y="3208320"/>
                <a:ext cx="0" cy="26856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"/>
              <p:cNvGrpSpPr/>
              <p:nvPr/>
            </p:nvGrpSpPr>
            <p:grpSpPr>
              <a:xfrm>
                <a:off x="1863360" y="3478320"/>
                <a:ext cx="371880" cy="97560"/>
                <a:chOff x="1863360" y="3478320"/>
                <a:chExt cx="371880" cy="97560"/>
              </a:xfrm>
            </p:grpSpPr>
            <p:sp>
              <p:nvSpPr>
                <p:cNvPr id="1577" name=""/>
                <p:cNvSpPr/>
                <p:nvPr/>
              </p:nvSpPr>
              <p:spPr>
                <a:xfrm flipV="1">
                  <a:off x="2064240" y="3484800"/>
                  <a:ext cx="166320" cy="8640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 flipH="1" flipV="1">
                  <a:off x="1863360" y="3478320"/>
                  <a:ext cx="194400" cy="9756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1878840" y="3480120"/>
                  <a:ext cx="8136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 flipH="1">
                  <a:off x="2122200" y="3481560"/>
                  <a:ext cx="113040" cy="0"/>
                </a:xfrm>
                <a:prstGeom prst="line">
                  <a:avLst/>
                </a:prstGeom>
                <a:ln cap="sq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81" name=""/>
          <p:cNvSpPr/>
          <p:nvPr/>
        </p:nvSpPr>
        <p:spPr>
          <a:xfrm flipH="1" flipV="1">
            <a:off x="7640280" y="2378160"/>
            <a:ext cx="96840" cy="179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7634160" y="2557440"/>
            <a:ext cx="106560" cy="1969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 flipV="1">
            <a:off x="7635960" y="2652840"/>
            <a:ext cx="1440" cy="93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7643880" y="2378160"/>
            <a:ext cx="1440" cy="11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6437160" y="2898360"/>
            <a:ext cx="369360" cy="96840"/>
            <a:chOff x="6437160" y="2898360"/>
            <a:chExt cx="369360" cy="96840"/>
          </a:xfrm>
        </p:grpSpPr>
        <p:sp>
          <p:nvSpPr>
            <p:cNvPr id="1586" name=""/>
            <p:cNvSpPr/>
            <p:nvPr/>
          </p:nvSpPr>
          <p:spPr>
            <a:xfrm flipV="1">
              <a:off x="6636960" y="2904120"/>
              <a:ext cx="166680" cy="8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 flipV="1">
              <a:off x="6437160" y="2898360"/>
              <a:ext cx="196560" cy="968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444720" y="2901600"/>
              <a:ext cx="8172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6698160" y="2904480"/>
              <a:ext cx="10836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0" name=""/>
          <p:cNvSpPr/>
          <p:nvPr/>
        </p:nvSpPr>
        <p:spPr>
          <a:xfrm>
            <a:off x="5148360" y="481500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5160960" y="4986360"/>
            <a:ext cx="874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5160960" y="5692680"/>
            <a:ext cx="2602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 flipH="1" flipV="1">
            <a:off x="5244840" y="4983120"/>
            <a:ext cx="11160" cy="563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5421240" y="2692080"/>
            <a:ext cx="1800" cy="3011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5441760" y="2414160"/>
            <a:ext cx="98280" cy="370080"/>
            <a:chOff x="5441760" y="2414160"/>
            <a:chExt cx="98280" cy="370080"/>
          </a:xfrm>
        </p:grpSpPr>
        <p:sp>
          <p:nvSpPr>
            <p:cNvPr id="1596" name=""/>
            <p:cNvSpPr/>
            <p:nvPr/>
          </p:nvSpPr>
          <p:spPr>
            <a:xfrm flipH="1" flipV="1">
              <a:off x="5446080" y="2414160"/>
              <a:ext cx="88920" cy="173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5441760" y="2593080"/>
              <a:ext cx="9828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V="1">
              <a:off x="5443560" y="2690640"/>
              <a:ext cx="0" cy="90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443560" y="2417400"/>
              <a:ext cx="0" cy="1008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0" name=""/>
          <p:cNvSpPr/>
          <p:nvPr/>
        </p:nvSpPr>
        <p:spPr>
          <a:xfrm flipH="1" flipV="1">
            <a:off x="5245200" y="2508120"/>
            <a:ext cx="7920" cy="16336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5253120" y="2516040"/>
            <a:ext cx="1839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 flipV="1">
            <a:off x="6218280" y="2479320"/>
            <a:ext cx="1419120" cy="12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3" name=""/>
          <p:cNvGrpSpPr/>
          <p:nvPr/>
        </p:nvGrpSpPr>
        <p:grpSpPr>
          <a:xfrm>
            <a:off x="7737480" y="5291280"/>
            <a:ext cx="1019160" cy="790560"/>
            <a:chOff x="7737480" y="5291280"/>
            <a:chExt cx="1019160" cy="790560"/>
          </a:xfrm>
        </p:grpSpPr>
        <p:sp>
          <p:nvSpPr>
            <p:cNvPr id="1604" name=""/>
            <p:cNvSpPr/>
            <p:nvPr/>
          </p:nvSpPr>
          <p:spPr>
            <a:xfrm>
              <a:off x="7737480" y="588636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737480" y="568800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737480" y="529128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737480" y="54896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8" name=""/>
          <p:cNvSpPr/>
          <p:nvPr/>
        </p:nvSpPr>
        <p:spPr>
          <a:xfrm>
            <a:off x="7737480" y="50943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7737480" y="48942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7737480" y="4494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7737480" y="4692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2" name=""/>
          <p:cNvGrpSpPr/>
          <p:nvPr/>
        </p:nvGrpSpPr>
        <p:grpSpPr>
          <a:xfrm>
            <a:off x="7737480" y="3700440"/>
            <a:ext cx="1019160" cy="789120"/>
            <a:chOff x="7737480" y="3700440"/>
            <a:chExt cx="1019160" cy="789120"/>
          </a:xfrm>
        </p:grpSpPr>
        <p:sp>
          <p:nvSpPr>
            <p:cNvPr id="1613" name=""/>
            <p:cNvSpPr/>
            <p:nvPr/>
          </p:nvSpPr>
          <p:spPr>
            <a:xfrm>
              <a:off x="7737480" y="4294080"/>
              <a:ext cx="1019160" cy="195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737480" y="409572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737480" y="370044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737480" y="3897360"/>
              <a:ext cx="1019160" cy="1951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7" name=""/>
          <p:cNvGrpSpPr/>
          <p:nvPr/>
        </p:nvGrpSpPr>
        <p:grpSpPr>
          <a:xfrm>
            <a:off x="7734240" y="2908440"/>
            <a:ext cx="1022400" cy="788760"/>
            <a:chOff x="7734240" y="2908440"/>
            <a:chExt cx="1022400" cy="788760"/>
          </a:xfrm>
        </p:grpSpPr>
        <p:sp>
          <p:nvSpPr>
            <p:cNvPr id="1618" name=""/>
            <p:cNvSpPr/>
            <p:nvPr/>
          </p:nvSpPr>
          <p:spPr>
            <a:xfrm>
              <a:off x="7734240" y="350208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734240" y="330516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734240" y="2908440"/>
              <a:ext cx="1022400" cy="19512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734240" y="3108240"/>
              <a:ext cx="1022400" cy="195480"/>
            </a:xfrm>
            <a:prstGeom prst="rect">
              <a:avLst/>
            </a:prstGeom>
            <a:noFill/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2" name=""/>
          <p:cNvSpPr/>
          <p:nvPr/>
        </p:nvSpPr>
        <p:spPr>
          <a:xfrm>
            <a:off x="7736040" y="271296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7736040" y="251460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7736040" y="211608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7736040" y="2316240"/>
            <a:ext cx="102204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6375240" y="43164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6375240" y="41194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6375240" y="3722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6375240" y="39211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6375240" y="51084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6375240" y="490860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6375240" y="451476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6375240" y="47116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6375240" y="589932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6375240" y="570060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6375240" y="5305320"/>
            <a:ext cx="1022400" cy="198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6375240" y="5502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 flipV="1">
            <a:off x="6531120" y="2652840"/>
            <a:ext cx="144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6215040" y="2657520"/>
            <a:ext cx="318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 flipV="1">
            <a:off x="6703920" y="2652840"/>
            <a:ext cx="1800" cy="247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6703920" y="2651040"/>
            <a:ext cx="932040" cy="4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469800" y="5695920"/>
            <a:ext cx="46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 flipH="1">
            <a:off x="720000" y="5006880"/>
            <a:ext cx="709560" cy="612720"/>
          </a:xfrm>
          <a:custGeom>
            <a:avLst/>
            <a:gdLst>
              <a:gd name="textAreaLeft" fmla="*/ 103680 w 709560"/>
              <a:gd name="textAreaRight" fmla="*/ 605880 w 709560"/>
              <a:gd name="textAreaTop" fmla="*/ 89640 h 612720"/>
              <a:gd name="textAreaBottom" fmla="*/ 523080 h 612720"/>
            </a:gdLst>
            <a:ahLst/>
            <a:rect l="textAreaLeft" t="textAreaTop" r="textAreaRight" b="textAreaBottom"/>
            <a:pathLst>
              <a:path w="21600" h="21600">
                <a:moveTo>
                  <a:pt x="19232" y="10800"/>
                </a:moveTo>
                <a:cubicBezTo>
                  <a:pt x="19232" y="7677"/>
                  <a:pt x="17506" y="4811"/>
                  <a:pt x="14748" y="3349"/>
                </a:cubicBezTo>
                <a:lnTo>
                  <a:pt x="15857" y="1257"/>
                </a:lnTo>
                <a:cubicBezTo>
                  <a:pt x="19390" y="3129"/>
                  <a:pt x="21599" y="6801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416" y="14684"/>
                </a:lnTo>
                <a:lnTo>
                  <a:pt x="16532" y="10800"/>
                </a:lnTo>
                <a:lnTo>
                  <a:pt x="19232" y="10800"/>
                </a:lnTo>
                <a:close/>
              </a:path>
            </a:pathLst>
          </a:custGeom>
          <a:noFill/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7918560" y="173340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6643800" y="26463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          Mem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1808280" y="534960"/>
            <a:ext cx="489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STM8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EXECUTION OF STM8 INSTRUCTION :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LD A, $0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 flipV="1">
            <a:off x="3940200" y="6378480"/>
            <a:ext cx="9828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4231800" y="634824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4229280" y="5757840"/>
            <a:ext cx="1440" cy="63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 flipV="1">
            <a:off x="4233960" y="6378120"/>
            <a:ext cx="1606320" cy="9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4227480" y="4995720"/>
            <a:ext cx="1800" cy="5907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6687720" y="6095880"/>
            <a:ext cx="368280" cy="294840"/>
            <a:chOff x="6687720" y="6095880"/>
            <a:chExt cx="368280" cy="294840"/>
          </a:xfrm>
        </p:grpSpPr>
        <p:sp>
          <p:nvSpPr>
            <p:cNvPr id="1653" name=""/>
            <p:cNvSpPr/>
            <p:nvPr/>
          </p:nvSpPr>
          <p:spPr>
            <a:xfrm flipH="1" flipV="1">
              <a:off x="6687720" y="6293160"/>
              <a:ext cx="18540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V="1">
              <a:off x="6873480" y="6293160"/>
              <a:ext cx="17928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>
              <a:off x="6961680" y="6290280"/>
              <a:ext cx="94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690960" y="6290280"/>
              <a:ext cx="878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7" name=""/>
            <p:cNvGrpSpPr/>
            <p:nvPr/>
          </p:nvGrpSpPr>
          <p:grpSpPr>
            <a:xfrm>
              <a:off x="6689160" y="6095880"/>
              <a:ext cx="361080" cy="95760"/>
              <a:chOff x="6689160" y="6095880"/>
              <a:chExt cx="361080" cy="95760"/>
            </a:xfrm>
          </p:grpSpPr>
          <p:sp>
            <p:nvSpPr>
              <p:cNvPr id="1658" name=""/>
              <p:cNvSpPr/>
              <p:nvPr/>
            </p:nvSpPr>
            <p:spPr>
              <a:xfrm>
                <a:off x="6871320" y="6095880"/>
                <a:ext cx="17460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H="1">
                <a:off x="6689160" y="6095880"/>
                <a:ext cx="182160" cy="9288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V="1">
                <a:off x="6692040" y="6187320"/>
                <a:ext cx="8532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H="1" flipV="1">
                <a:off x="6958440" y="6187320"/>
                <a:ext cx="91800" cy="43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2" name=""/>
            <p:cNvSpPr/>
            <p:nvPr/>
          </p:nvSpPr>
          <p:spPr>
            <a:xfrm flipH="1">
              <a:off x="6960240" y="6195240"/>
              <a:ext cx="4320" cy="92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780600" y="6195240"/>
              <a:ext cx="0" cy="88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4" name=""/>
          <p:cNvSpPr/>
          <p:nvPr/>
        </p:nvSpPr>
        <p:spPr>
          <a:xfrm flipH="1">
            <a:off x="290160" y="6391440"/>
            <a:ext cx="2644920" cy="288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flipH="1" flipV="1">
            <a:off x="286920" y="3359160"/>
            <a:ext cx="9720" cy="30384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12320" y="3201480"/>
            <a:ext cx="913320" cy="986400"/>
            <a:chOff x="112320" y="3201480"/>
            <a:chExt cx="913320" cy="986400"/>
          </a:xfrm>
        </p:grpSpPr>
        <p:sp>
          <p:nvSpPr>
            <p:cNvPr id="1667" name=""/>
            <p:cNvSpPr/>
            <p:nvPr/>
          </p:nvSpPr>
          <p:spPr>
            <a:xfrm rot="5400000">
              <a:off x="551520" y="3879000"/>
              <a:ext cx="257400" cy="3344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34440" y="4187880"/>
              <a:ext cx="641880" cy="0"/>
            </a:xfrm>
            <a:prstGeom prst="line">
              <a:avLst/>
            </a:prstGeom>
            <a:ln cap="sq"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40920" y="3593520"/>
              <a:ext cx="684720" cy="324000"/>
            </a:xfrm>
            <a:prstGeom prst="rect">
              <a:avLst/>
            </a:prstGeom>
            <a:solidFill>
              <a:srgbClr val="ffffff"/>
            </a:solidFill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H="1">
              <a:off x="290160" y="3364560"/>
              <a:ext cx="2865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V="1">
              <a:off x="752760" y="3201480"/>
              <a:ext cx="0" cy="28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2" name=""/>
            <p:cNvGrpSpPr/>
            <p:nvPr/>
          </p:nvGrpSpPr>
          <p:grpSpPr>
            <a:xfrm>
              <a:off x="478080" y="3358080"/>
              <a:ext cx="367200" cy="222480"/>
              <a:chOff x="478080" y="3358080"/>
              <a:chExt cx="367200" cy="222480"/>
            </a:xfrm>
          </p:grpSpPr>
          <p:sp>
            <p:nvSpPr>
              <p:cNvPr id="1673" name=""/>
              <p:cNvSpPr/>
              <p:nvPr/>
            </p:nvSpPr>
            <p:spPr>
              <a:xfrm flipV="1">
                <a:off x="579960" y="3358080"/>
                <a:ext cx="0" cy="12672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V="1">
                <a:off x="676800" y="3486240"/>
                <a:ext cx="165600" cy="914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H="1" flipV="1">
                <a:off x="478080" y="3481920"/>
                <a:ext cx="195480" cy="9864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490680" y="3483360"/>
                <a:ext cx="8136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H="1">
                <a:off x="747000" y="3483360"/>
                <a:ext cx="98280" cy="0"/>
              </a:xfrm>
              <a:prstGeom prst="line">
                <a:avLst/>
              </a:prstGeom>
              <a:ln cap="sq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8" name=""/>
            <p:cNvSpPr/>
            <p:nvPr/>
          </p:nvSpPr>
          <p:spPr>
            <a:xfrm flipH="1">
              <a:off x="112320" y="3207600"/>
              <a:ext cx="643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9" name=""/>
          <p:cNvSpPr/>
          <p:nvPr/>
        </p:nvSpPr>
        <p:spPr>
          <a:xfrm>
            <a:off x="115920" y="3208320"/>
            <a:ext cx="3240" cy="3338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8737560" y="6291000"/>
            <a:ext cx="98640" cy="369720"/>
            <a:chOff x="8737560" y="6291000"/>
            <a:chExt cx="98640" cy="369720"/>
          </a:xfrm>
        </p:grpSpPr>
        <p:sp>
          <p:nvSpPr>
            <p:cNvPr id="1681" name=""/>
            <p:cNvSpPr/>
            <p:nvPr/>
          </p:nvSpPr>
          <p:spPr>
            <a:xfrm flipH="1">
              <a:off x="8743320" y="6493680"/>
              <a:ext cx="89280" cy="1670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H="1" flipV="1">
              <a:off x="8737560" y="6291000"/>
              <a:ext cx="98640" cy="1976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8738640" y="6306840"/>
              <a:ext cx="0" cy="82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V="1">
              <a:off x="8738640" y="656136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5" name=""/>
          <p:cNvSpPr/>
          <p:nvPr/>
        </p:nvSpPr>
        <p:spPr>
          <a:xfrm flipH="1">
            <a:off x="117360" y="6543720"/>
            <a:ext cx="86220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6" name=""/>
          <p:cNvGrpSpPr/>
          <p:nvPr/>
        </p:nvGrpSpPr>
        <p:grpSpPr>
          <a:xfrm>
            <a:off x="5740200" y="2746440"/>
            <a:ext cx="360000" cy="106200"/>
            <a:chOff x="5740200" y="2746440"/>
            <a:chExt cx="360000" cy="106200"/>
          </a:xfrm>
        </p:grpSpPr>
        <p:sp>
          <p:nvSpPr>
            <p:cNvPr id="1687" name=""/>
            <p:cNvSpPr/>
            <p:nvPr/>
          </p:nvSpPr>
          <p:spPr>
            <a:xfrm flipH="1">
              <a:off x="5740200" y="2746440"/>
              <a:ext cx="174600" cy="106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916600" y="2746440"/>
              <a:ext cx="182520" cy="936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H="1">
              <a:off x="5999760" y="2846520"/>
              <a:ext cx="100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0" name=""/>
          <p:cNvGrpSpPr/>
          <p:nvPr/>
        </p:nvGrpSpPr>
        <p:grpSpPr>
          <a:xfrm>
            <a:off x="8051760" y="6086520"/>
            <a:ext cx="369360" cy="299520"/>
            <a:chOff x="8051760" y="6086520"/>
            <a:chExt cx="369360" cy="299520"/>
          </a:xfrm>
        </p:grpSpPr>
        <p:sp>
          <p:nvSpPr>
            <p:cNvPr id="1691" name=""/>
            <p:cNvSpPr/>
            <p:nvPr/>
          </p:nvSpPr>
          <p:spPr>
            <a:xfrm flipV="1">
              <a:off x="8152560" y="6086520"/>
              <a:ext cx="0" cy="20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8323560" y="6087600"/>
              <a:ext cx="0" cy="199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V="1">
              <a:off x="8252280" y="6290640"/>
              <a:ext cx="167400" cy="92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 flipV="1">
              <a:off x="8051760" y="6285960"/>
              <a:ext cx="197280" cy="100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8065440" y="6287400"/>
              <a:ext cx="8388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8319960" y="6287400"/>
              <a:ext cx="1011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7" name=""/>
          <p:cNvSpPr/>
          <p:nvPr/>
        </p:nvSpPr>
        <p:spPr>
          <a:xfrm flipH="1">
            <a:off x="5997240" y="2846520"/>
            <a:ext cx="11160" cy="35463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5840280" y="2852640"/>
            <a:ext cx="1800" cy="35276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 flipH="1">
            <a:off x="5997240" y="6392880"/>
            <a:ext cx="27399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 flipV="1">
            <a:off x="4038480" y="3751200"/>
            <a:ext cx="1800" cy="26352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1" name=""/>
          <p:cNvGrpSpPr/>
          <p:nvPr/>
        </p:nvGrpSpPr>
        <p:grpSpPr>
          <a:xfrm>
            <a:off x="3939840" y="3651120"/>
            <a:ext cx="370080" cy="98640"/>
            <a:chOff x="3939840" y="3651120"/>
            <a:chExt cx="370080" cy="98640"/>
          </a:xfrm>
        </p:grpSpPr>
        <p:sp>
          <p:nvSpPr>
            <p:cNvPr id="1702" name=""/>
            <p:cNvSpPr/>
            <p:nvPr/>
          </p:nvSpPr>
          <p:spPr>
            <a:xfrm flipH="1">
              <a:off x="3939840" y="3654000"/>
              <a:ext cx="176040" cy="842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116240" y="3651120"/>
              <a:ext cx="193680" cy="939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4214520" y="3749760"/>
              <a:ext cx="9036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V="1">
              <a:off x="3940200" y="3745080"/>
              <a:ext cx="95400" cy="4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6" name=""/>
          <p:cNvSpPr/>
          <p:nvPr/>
        </p:nvSpPr>
        <p:spPr>
          <a:xfrm flipH="1">
            <a:off x="4208040" y="4309920"/>
            <a:ext cx="12600" cy="514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7" name=""/>
          <p:cNvGrpSpPr/>
          <p:nvPr/>
        </p:nvGrpSpPr>
        <p:grpSpPr>
          <a:xfrm>
            <a:off x="4214520" y="4724280"/>
            <a:ext cx="261720" cy="369720"/>
            <a:chOff x="4214520" y="4724280"/>
            <a:chExt cx="261720" cy="369720"/>
          </a:xfrm>
        </p:grpSpPr>
        <p:sp>
          <p:nvSpPr>
            <p:cNvPr id="1708" name=""/>
            <p:cNvSpPr/>
            <p:nvPr/>
          </p:nvSpPr>
          <p:spPr>
            <a:xfrm flipH="1">
              <a:off x="4382280" y="4921560"/>
              <a:ext cx="90720" cy="1677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H="1" flipV="1">
              <a:off x="4376160" y="4724280"/>
              <a:ext cx="100080" cy="197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377600" y="4736520"/>
              <a:ext cx="0" cy="8244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V="1">
              <a:off x="4377600" y="4994640"/>
              <a:ext cx="0" cy="99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>
              <a:off x="4214520" y="482184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4228920" y="4994640"/>
              <a:ext cx="1454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4228920" y="5482800"/>
            <a:ext cx="242640" cy="371520"/>
            <a:chOff x="4228920" y="5482800"/>
            <a:chExt cx="242640" cy="371520"/>
          </a:xfrm>
        </p:grpSpPr>
        <p:sp>
          <p:nvSpPr>
            <p:cNvPr id="1715" name=""/>
            <p:cNvSpPr/>
            <p:nvPr/>
          </p:nvSpPr>
          <p:spPr>
            <a:xfrm flipH="1" flipV="1">
              <a:off x="4377600" y="5482800"/>
              <a:ext cx="90720" cy="175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>
              <a:off x="4370040" y="5663160"/>
              <a:ext cx="101520" cy="1911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V="1">
              <a:off x="4373280" y="5756400"/>
              <a:ext cx="0" cy="90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376160" y="5487840"/>
              <a:ext cx="0" cy="97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4229280" y="5589000"/>
              <a:ext cx="1440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4228920" y="5759640"/>
              <a:ext cx="1422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395280" y="5433840"/>
            <a:ext cx="716040" cy="285840"/>
            <a:chOff x="395280" y="5433840"/>
            <a:chExt cx="716040" cy="285840"/>
          </a:xfrm>
        </p:grpSpPr>
        <p:sp>
          <p:nvSpPr>
            <p:cNvPr id="1722" name=""/>
            <p:cNvSpPr/>
            <p:nvPr/>
          </p:nvSpPr>
          <p:spPr>
            <a:xfrm>
              <a:off x="39528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39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8436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826920" y="5433840"/>
              <a:ext cx="14004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971640" y="5433840"/>
              <a:ext cx="139680" cy="285840"/>
            </a:xfrm>
            <a:prstGeom prst="rect">
              <a:avLst/>
            </a:prstGeom>
            <a:noFill/>
            <a:ln cap="sq"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7" name=""/>
          <p:cNvSpPr/>
          <p:nvPr/>
        </p:nvSpPr>
        <p:spPr>
          <a:xfrm>
            <a:off x="6402240" y="2460600"/>
            <a:ext cx="88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1085760" y="5816520"/>
            <a:ext cx="676440" cy="357120"/>
          </a:xfrm>
          <a:prstGeom prst="rect">
            <a:avLst/>
          </a:prstGeom>
          <a:solidFill>
            <a:srgbClr val="ffffff"/>
          </a:solidFill>
          <a:ln cap="sq" w="176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9" name=""/>
          <p:cNvGrpSpPr/>
          <p:nvPr/>
        </p:nvGrpSpPr>
        <p:grpSpPr>
          <a:xfrm>
            <a:off x="1221840" y="5351040"/>
            <a:ext cx="406440" cy="460440"/>
            <a:chOff x="1221840" y="5351040"/>
            <a:chExt cx="406440" cy="460440"/>
          </a:xfrm>
        </p:grpSpPr>
        <p:sp>
          <p:nvSpPr>
            <p:cNvPr id="1730" name=""/>
            <p:cNvSpPr/>
            <p:nvPr/>
          </p:nvSpPr>
          <p:spPr>
            <a:xfrm flipH="1" flipV="1">
              <a:off x="1221840" y="5701320"/>
              <a:ext cx="206280" cy="11016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V="1">
              <a:off x="1428480" y="5707080"/>
              <a:ext cx="196560" cy="10404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1526040" y="5701320"/>
              <a:ext cx="10224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225080" y="5696640"/>
              <a:ext cx="95760" cy="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H="1" flipV="1">
              <a:off x="1521000" y="5351040"/>
              <a:ext cx="6120" cy="35460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H="1" flipV="1">
              <a:off x="1319400" y="5351400"/>
              <a:ext cx="7920" cy="349920"/>
            </a:xfrm>
            <a:prstGeom prst="line">
              <a:avLst/>
            </a:prstGeom>
            <a:ln cap="sq"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"/>
          <p:cNvSpPr/>
          <p:nvPr/>
        </p:nvSpPr>
        <p:spPr>
          <a:xfrm>
            <a:off x="3106800" y="6383160"/>
            <a:ext cx="93348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2184480" y="397368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Accumul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716040" y="39052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2455920" y="17827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0" name=""/>
          <p:cNvCxnSpPr/>
          <p:nvPr/>
        </p:nvCxnSpPr>
        <p:spPr>
          <a:xfrm>
            <a:off x="2688840" y="1895040"/>
            <a:ext cx="27540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1" name=""/>
          <p:cNvSpPr/>
          <p:nvPr/>
        </p:nvSpPr>
        <p:spPr>
          <a:xfrm>
            <a:off x="4479840" y="4056120"/>
            <a:ext cx="66384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5156280" y="4129200"/>
            <a:ext cx="9036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5157720" y="4287960"/>
            <a:ext cx="907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5246640" y="4284360"/>
            <a:ext cx="3240" cy="5317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5" name=""/>
          <p:cNvGrpSpPr/>
          <p:nvPr/>
        </p:nvGrpSpPr>
        <p:grpSpPr>
          <a:xfrm>
            <a:off x="4209840" y="4040280"/>
            <a:ext cx="261360" cy="369000"/>
            <a:chOff x="4209840" y="4040280"/>
            <a:chExt cx="261360" cy="369000"/>
          </a:xfrm>
        </p:grpSpPr>
        <p:sp>
          <p:nvSpPr>
            <p:cNvPr id="1746" name=""/>
            <p:cNvSpPr/>
            <p:nvPr/>
          </p:nvSpPr>
          <p:spPr>
            <a:xfrm flipH="1">
              <a:off x="4377600" y="4238280"/>
              <a:ext cx="90720" cy="1663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H="1" flipV="1">
              <a:off x="4370760" y="4040280"/>
              <a:ext cx="100440" cy="1965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372920" y="4052880"/>
              <a:ext cx="0" cy="8136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H="1" flipV="1">
              <a:off x="4368240" y="4302360"/>
              <a:ext cx="4320" cy="1069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H="1">
              <a:off x="4209840" y="4139280"/>
              <a:ext cx="15804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H="1">
              <a:off x="4217760" y="4310640"/>
              <a:ext cx="1519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2" name=""/>
          <p:cNvSpPr/>
          <p:nvPr/>
        </p:nvSpPr>
        <p:spPr>
          <a:xfrm>
            <a:off x="4218120" y="3753000"/>
            <a:ext cx="1440" cy="38232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4383000" y="4344840"/>
            <a:ext cx="86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5554800" y="2432160"/>
            <a:ext cx="663480" cy="311040"/>
          </a:xfrm>
          <a:prstGeom prst="rect">
            <a:avLst/>
          </a:prstGeom>
          <a:noFill/>
          <a:ln cap="sq"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5148360" y="5538960"/>
            <a:ext cx="9828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5419800" y="2698920"/>
            <a:ext cx="2232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H="1">
            <a:off x="5736960" y="2855880"/>
            <a:ext cx="10620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6377040" y="340524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6377040" y="32068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6377040" y="3005280"/>
            <a:ext cx="1022400" cy="198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6415200" y="3630600"/>
            <a:ext cx="144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H="1">
            <a:off x="7392960" y="3630600"/>
            <a:ext cx="7920" cy="6516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6208560" y="1455840"/>
            <a:ext cx="9720" cy="5124240"/>
          </a:xfrm>
          <a:prstGeom prst="line">
            <a:avLst/>
          </a:prstGeom>
          <a:ln cap="rnd" w="6480">
            <a:solidFill>
              <a:srgbClr val="7030a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4" name=""/>
          <p:cNvGrpSpPr/>
          <p:nvPr/>
        </p:nvGrpSpPr>
        <p:grpSpPr>
          <a:xfrm>
            <a:off x="6150960" y="3724200"/>
            <a:ext cx="257400" cy="2390040"/>
            <a:chOff x="6150960" y="3724200"/>
            <a:chExt cx="257400" cy="2390040"/>
          </a:xfrm>
        </p:grpSpPr>
        <p:sp>
          <p:nvSpPr>
            <p:cNvPr id="1765" name=""/>
            <p:cNvSpPr/>
            <p:nvPr/>
          </p:nvSpPr>
          <p:spPr>
            <a:xfrm>
              <a:off x="6163560" y="5883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163560" y="568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163560" y="5491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163560" y="5294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163560" y="5097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163560" y="4903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163560" y="470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163560" y="4510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163560" y="4313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163560" y="4116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6150960" y="392112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150960" y="3724200"/>
              <a:ext cx="257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8636040" y="2124000"/>
            <a:ext cx="522000" cy="3971520"/>
            <a:chOff x="8636040" y="2124000"/>
            <a:chExt cx="522000" cy="3971520"/>
          </a:xfrm>
        </p:grpSpPr>
        <p:sp>
          <p:nvSpPr>
            <p:cNvPr id="1778" name=""/>
            <p:cNvSpPr/>
            <p:nvPr/>
          </p:nvSpPr>
          <p:spPr>
            <a:xfrm>
              <a:off x="8652960" y="5479920"/>
              <a:ext cx="50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8636040" y="33195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0" lang="fr-FR" sz="900" spc="-1" strike="noStrike">
                  <a:solidFill>
                    <a:srgbClr val="3333cc"/>
                  </a:solidFill>
                  <a:latin typeface="Arial"/>
                </a:rPr>
                <a:t>808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0" name=""/>
            <p:cNvGrpSpPr/>
            <p:nvPr/>
          </p:nvGrpSpPr>
          <p:grpSpPr>
            <a:xfrm>
              <a:off x="8697600" y="2124000"/>
              <a:ext cx="460440" cy="3971520"/>
              <a:chOff x="8697600" y="2124000"/>
              <a:chExt cx="460440" cy="3971520"/>
            </a:xfrm>
          </p:grpSpPr>
          <p:sp>
            <p:nvSpPr>
              <p:cNvPr id="1781" name=""/>
              <p:cNvSpPr/>
              <p:nvPr/>
            </p:nvSpPr>
            <p:spPr>
              <a:xfrm>
                <a:off x="8718120" y="58644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8721360" y="5668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8718120" y="52754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8718120" y="50785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8718120" y="48830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8718120" y="468648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8718120" y="44895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8718120" y="42926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8718120" y="40957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8705880" y="39006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8705880" y="370368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8701200" y="350028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8705880" y="3106800"/>
                <a:ext cx="448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8697960" y="291132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8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8697600" y="271476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8697600" y="251784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8697600" y="232092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8697600" y="2124000"/>
                <a:ext cx="436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900" spc="-1" strike="noStrike">
                    <a:solidFill>
                      <a:srgbClr val="3333cc"/>
                    </a:solidFill>
                    <a:latin typeface="Arial"/>
                  </a:rPr>
                  <a:t>80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9" name=""/>
          <p:cNvSpPr/>
          <p:nvPr/>
        </p:nvSpPr>
        <p:spPr>
          <a:xfrm>
            <a:off x="4576680" y="47847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80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8080200" y="587520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3951360" y="3351240"/>
            <a:ext cx="3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8086680" y="56563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6696000" y="4292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8088480" y="526896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8067960" y="5456160"/>
            <a:ext cx="381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6692760" y="4075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3025800" y="1109520"/>
            <a:ext cx="239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Instruction is finish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5640480" y="24494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1843200" y="362268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984600" y="481500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 bit Arithmet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6:09:06Z</dcterms:created>
  <dc:creator>Bernard GLOSSI</dc:creator>
  <dc:description/>
  <dc:language>en-US</dc:language>
  <cp:lastModifiedBy/>
  <dcterms:modified xsi:type="dcterms:W3CDTF">2019-09-17T16:12:04Z</dcterms:modified>
  <cp:revision>176</cp:revision>
  <dc:subject/>
  <dc:title>PROCESSEUR DU 8051</dc:title>
</cp:coreProperties>
</file>