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DejaVu Sans"/>
              </a:rPr>
              <a:t>ESISAR - IN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21040" y="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0000" cy="3711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898200" y="4705200"/>
            <a:ext cx="49417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3820680" y="941040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60E74-11F4-41BA-AB9A-C2D943927BD1}" type="slidenum">
              <a:rPr b="0" lang="fr-FR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2" name=""/>
          <p:cNvSpPr/>
          <p:nvPr/>
        </p:nvSpPr>
        <p:spPr>
          <a:xfrm>
            <a:off x="382104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FA08E-690A-4BFD-AC40-11EACA6D12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3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324" name="PlaceHolder 2"/>
          <p:cNvSpPr>
            <a:spLocks noGrp="1"/>
          </p:cNvSpPr>
          <p:nvPr>
            <p:ph type="body"/>
          </p:nvPr>
        </p:nvSpPr>
        <p:spPr>
          <a:xfrm>
            <a:off x="898560" y="4704840"/>
            <a:ext cx="49449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5" name=""/>
          <p:cNvSpPr/>
          <p:nvPr/>
        </p:nvSpPr>
        <p:spPr>
          <a:xfrm>
            <a:off x="382104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27E34-FFBB-410B-A099-C2AE3417C8C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327" name="PlaceHolder 2"/>
          <p:cNvSpPr>
            <a:spLocks noGrp="1"/>
          </p:cNvSpPr>
          <p:nvPr>
            <p:ph type="body"/>
          </p:nvPr>
        </p:nvSpPr>
        <p:spPr>
          <a:xfrm>
            <a:off x="898560" y="4704840"/>
            <a:ext cx="49449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6" name=""/>
          <p:cNvSpPr/>
          <p:nvPr/>
        </p:nvSpPr>
        <p:spPr>
          <a:xfrm>
            <a:off x="382104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7F3AC-3935-45A0-BEB2-2BA206C26D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7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318" name="PlaceHolder 2"/>
          <p:cNvSpPr>
            <a:spLocks noGrp="1"/>
          </p:cNvSpPr>
          <p:nvPr>
            <p:ph type="body"/>
          </p:nvPr>
        </p:nvSpPr>
        <p:spPr>
          <a:xfrm>
            <a:off x="898560" y="4704840"/>
            <a:ext cx="49449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8" name=""/>
          <p:cNvSpPr/>
          <p:nvPr/>
        </p:nvSpPr>
        <p:spPr>
          <a:xfrm>
            <a:off x="382104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58ABD-796D-41F5-A0F8-FFB3EFF6B1C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9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330" name="PlaceHolder 2"/>
          <p:cNvSpPr>
            <a:spLocks noGrp="1"/>
          </p:cNvSpPr>
          <p:nvPr>
            <p:ph type="body"/>
          </p:nvPr>
        </p:nvSpPr>
        <p:spPr>
          <a:xfrm>
            <a:off x="898560" y="4704840"/>
            <a:ext cx="49449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9" name=""/>
          <p:cNvSpPr/>
          <p:nvPr/>
        </p:nvSpPr>
        <p:spPr>
          <a:xfrm>
            <a:off x="382104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D6160-3CF6-4411-BF22-2272C256FF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321" name="PlaceHolder 2"/>
          <p:cNvSpPr>
            <a:spLocks noGrp="1"/>
          </p:cNvSpPr>
          <p:nvPr>
            <p:ph type="body"/>
          </p:nvPr>
        </p:nvSpPr>
        <p:spPr>
          <a:xfrm>
            <a:off x="898560" y="4704840"/>
            <a:ext cx="49449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1" name=""/>
          <p:cNvSpPr/>
          <p:nvPr/>
        </p:nvSpPr>
        <p:spPr>
          <a:xfrm>
            <a:off x="382104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64C63-17A1-4AD1-82DD-75642E1046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333" name="PlaceHolder 2"/>
          <p:cNvSpPr>
            <a:spLocks noGrp="1"/>
          </p:cNvSpPr>
          <p:nvPr>
            <p:ph type="body"/>
          </p:nvPr>
        </p:nvSpPr>
        <p:spPr>
          <a:xfrm>
            <a:off x="898560" y="4704840"/>
            <a:ext cx="49449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61741-3D5B-4797-9207-3D082D0592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7C39A-4DAA-415D-A105-72DF6C183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DBBCA-21A6-45DF-A840-6F6C3F988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1CA02-DA68-4A0F-8D18-E0122283A7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ACCD9-97FC-4907-8F08-E7C3646448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B41AF-C12C-4EF9-8CC8-903F08728E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C87AD-62C7-43A5-BEB8-AAA3134715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011EC-6939-4496-A4B4-CE2280E39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4C928-D7B2-4695-9C67-59E22E26DA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AB4F6-8965-4897-B24E-9B7645E49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B25CE-596A-4845-BFD4-61D42B6CE1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8CC14-04EE-46F2-BB9C-79B508617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rocesseur 8051  B.Glo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46722-48A2-4315-8D61-3B8E32A91015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AC09D-1EFF-43C2-AB16-636F854E09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55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63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72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79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83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83880" y="4815000"/>
              <a:ext cx="7930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8 bit Arithmetic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90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97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105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108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117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127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135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144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149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92120" y="372960"/>
            <a:ext cx="392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184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189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198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212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218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222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233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239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246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253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261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277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296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309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312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0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57880" y="1011240"/>
            <a:ext cx="145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Starting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"/>
          <p:cNvSpPr/>
          <p:nvPr/>
        </p:nvSpPr>
        <p:spPr>
          <a:xfrm>
            <a:off x="46836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EXECUTION OF STM8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1631880" y="2670120"/>
            <a:ext cx="652356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xecution of  ADD A, $09 is achiev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Program counter is ready with the address of the next 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Instruction register contains yet the op code of the achieved 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Accumulator contains the operand:  5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Data bus is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3713040" y="186696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LD A, $0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EXECUTION OF STM8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847800" y="2057400"/>
            <a:ext cx="7772400" cy="3905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Action to be performed by the processor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dd the address 9 content to the accu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embly instruction: 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ADD A, $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achine instruction: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   BB 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 bytes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Direct addressing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6E735-F645-44FD-9D8F-E39946A193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0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1821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4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8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1829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5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7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1838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4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1845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7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8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1849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4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1855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1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1862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9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1870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2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1873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77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1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1882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6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1892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6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9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1900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4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8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1909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1914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8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1724400" y="534960"/>
            <a:ext cx="506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ADD A, $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8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1949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3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1954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8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0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2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1963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8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1969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4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5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6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1977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1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2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1983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6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1987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3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7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1998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2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3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2004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0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2011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7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2018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3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5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2026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2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6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7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1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2042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8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0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2061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3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2074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6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2077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5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3953160" y="335124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5729400" y="633744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705240" y="633888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2848320" y="45417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3025800" y="1109520"/>
            <a:ext cx="239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1rst exchange : Op Code Fet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5611680" y="244944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1843200" y="362268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8737560" y="5391000"/>
            <a:ext cx="392040" cy="417600"/>
          </a:xfrm>
          <a:prstGeom prst="leftArrow">
            <a:avLst>
              <a:gd name="adj1" fmla="val 50000"/>
              <a:gd name="adj2" fmla="val 25000"/>
            </a:avLst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96E78-5A64-44B0-8E63-921039C104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5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2116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9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3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2124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0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2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2133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9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2140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3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2144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9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2150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6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2157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4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2165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7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2168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72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6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2177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1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6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2187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1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4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2195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9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3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2204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8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2209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3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1724400" y="534960"/>
            <a:ext cx="506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ADD A, $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3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2244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8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2249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3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5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7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2258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3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2264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9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0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1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2272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6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7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2278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1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2282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8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2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2293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7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8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2299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5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2306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2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2313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8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2321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7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1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2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2337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3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5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2356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8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2369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1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2372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90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3953160" y="335124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5726160" y="633744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703440" y="633888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2846520" y="45417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2759040" y="1109520"/>
            <a:ext cx="3027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nd exchange : Read the operand addre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5602320" y="24494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1843200" y="362268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8737560" y="5191200"/>
            <a:ext cx="392040" cy="417600"/>
          </a:xfrm>
          <a:prstGeom prst="leftArrow">
            <a:avLst>
              <a:gd name="adj1" fmla="val 50000"/>
              <a:gd name="adj2" fmla="val 25000"/>
            </a:avLst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BD21E-495A-4AFD-A56A-F4D8F5B1F8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0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2411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4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2419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5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7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2428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4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2435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7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8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2439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4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2445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1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2452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9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2460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2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2463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67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1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2472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6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1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2482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6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9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2490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4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8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2499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3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2504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8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1724400" y="534960"/>
            <a:ext cx="506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ADD A, $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8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2539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3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2544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8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0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2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2553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8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2559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4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5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6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2567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1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2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2573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6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2577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3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7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2588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2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3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2594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0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2601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7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2608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3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5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2616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2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6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27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1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2632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8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0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2651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163560" y="41068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3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2664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6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2667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85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3953160" y="335124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5727600" y="63374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D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2759040" y="1109520"/>
            <a:ext cx="3027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3rd exchange : read the oper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5602320" y="24494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1843200" y="362268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765000" y="63468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D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2846520" y="45450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D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474840" y="3608280"/>
            <a:ext cx="46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6134040" y="4032360"/>
            <a:ext cx="285840" cy="399960"/>
          </a:xfrm>
          <a:prstGeom prst="rightArrow">
            <a:avLst>
              <a:gd name="adj1" fmla="val 50000"/>
              <a:gd name="adj2" fmla="val 25000"/>
            </a:avLst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DC9A7-1B33-466E-8575-41D1F96054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6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2707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0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4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2715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1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3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2724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0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2731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3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4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2735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0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2741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7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2748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5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2756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8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2759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3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7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2768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2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7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2778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2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5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2786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0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4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2795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9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2800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4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1724400" y="534960"/>
            <a:ext cx="506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ADD A, $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4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2835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9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2840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4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6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8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2849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4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2855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0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1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2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2863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7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8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2869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2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2873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9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3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2884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8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9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2890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6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2897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3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2904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9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1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2912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8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2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23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7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2928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4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6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2947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9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2960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2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2963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81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3953160" y="335124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>
            <a:off x="2759040" y="1109520"/>
            <a:ext cx="3027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ddition of oper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>
            <a:off x="5602320" y="24494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>
            <a:off x="1843200" y="362268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>
            <a:off x="474840" y="3608280"/>
            <a:ext cx="46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>
            <a:off x="1220760" y="5848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>
            <a:off x="917640" y="547380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174F4-4DAB-4C50-A023-1FCF9344DB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0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3001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4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8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3009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5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7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3018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4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3025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7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8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3029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4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3035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1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3042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9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3050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52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3053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57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1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3062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6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1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3072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6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9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3080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4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8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3089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3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3094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8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1724400" y="534960"/>
            <a:ext cx="506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ADD A, $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8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3129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3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3134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8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0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2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3143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8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3149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4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5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6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3157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1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2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3163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6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3167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3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7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3178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2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3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3184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0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3191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7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3198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3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5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3206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2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6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7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1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3222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8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0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3241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3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3254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6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3257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5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3953160" y="335124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2759040" y="1109520"/>
            <a:ext cx="3027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ddition of oper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5602320" y="24494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>
            <a:off x="1843200" y="362268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>
            <a:off x="474840" y="3608280"/>
            <a:ext cx="46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1220760" y="5848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917640" y="547380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"/>
          <p:cNvSpPr/>
          <p:nvPr/>
        </p:nvSpPr>
        <p:spPr>
          <a:xfrm>
            <a:off x="46836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EXECUTION OF STM8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2412720" y="2670120"/>
            <a:ext cx="65235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xecution of  ADD A, $09 is achieved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Program counter is ready with the address of the next 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Instruction register contains yet the op code of the achieved 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Accumulator contains a part of the sum  : 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CARRY flag is set  because the result needs 9 bits : 13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Data bus is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3713400" y="186696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ADD A, $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3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3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EXECUTION OF STM8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847800" y="2057400"/>
            <a:ext cx="7772400" cy="3905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Action to be performed by the processor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ubtract the value  # $25 from the accu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embly instruction: 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SUB A, # $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achine instruction: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   A0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 bytes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Immediate addressing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7B794-532E-41BA-9554-D7329211D3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9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3300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3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7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3308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4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6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3317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3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3324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6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7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3328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3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3334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0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3341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8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3349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51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3352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3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4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5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56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0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3361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5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0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3371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5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8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3379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3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7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3388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2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3393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7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>
            <a:off x="1644480" y="534960"/>
            <a:ext cx="522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SUB A, # $2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7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3428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2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3433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7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9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1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3442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7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3448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3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4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5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3456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0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1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3462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5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3466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2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6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3477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1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2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3483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9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3490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6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3497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2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4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3505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1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15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16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0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3521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7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9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3540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2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3553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5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3556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4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>
            <a:off x="3951360" y="33512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2759040" y="1109520"/>
            <a:ext cx="3027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1rst exchange : Op Code Fet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>
            <a:off x="1843200" y="362268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474840" y="3608280"/>
            <a:ext cx="46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1220760" y="5848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917640" y="547380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8066160" y="50720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8086680" y="488484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5673600" y="24415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8737560" y="4991040"/>
            <a:ext cx="392040" cy="417600"/>
          </a:xfrm>
          <a:prstGeom prst="leftArrow">
            <a:avLst>
              <a:gd name="adj1" fmla="val 50000"/>
              <a:gd name="adj2" fmla="val 25000"/>
            </a:avLst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5727600" y="63374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A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3946680" y="449892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A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3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3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EXECUTION OF STM8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2057400"/>
            <a:ext cx="7772400" cy="406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4 basic instruction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38400" y="4211640"/>
            <a:ext cx="676728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4 basic addressing mod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i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mmed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dexed without off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h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3C20E-2A67-484C-BEBA-691250D36D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8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3599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2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6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3607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3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5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3616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2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3623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5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6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3627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2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3633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9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3640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7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3648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0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3651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2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3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4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55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9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3660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4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9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3670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4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7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3678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2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6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3687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1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3692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6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>
            <a:off x="1644480" y="534960"/>
            <a:ext cx="522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SUB A, # $2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6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3727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1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3732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6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8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0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3741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6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3747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2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3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4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3755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9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0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3761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4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3765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1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5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3776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0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1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3782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8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3789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5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3796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1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3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3804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0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4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5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9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3820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6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8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3839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1" name=""/>
          <p:cNvGrpSpPr/>
          <p:nvPr/>
        </p:nvGrpSpPr>
        <p:grpSpPr>
          <a:xfrm>
            <a:off x="8636040" y="2104920"/>
            <a:ext cx="522000" cy="3971520"/>
            <a:chOff x="8636040" y="2104920"/>
            <a:chExt cx="522000" cy="3971520"/>
          </a:xfrm>
        </p:grpSpPr>
        <p:sp>
          <p:nvSpPr>
            <p:cNvPr id="3852" name=""/>
            <p:cNvSpPr/>
            <p:nvPr/>
          </p:nvSpPr>
          <p:spPr>
            <a:xfrm>
              <a:off x="8652960" y="546084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8636040" y="330048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4" name=""/>
            <p:cNvGrpSpPr/>
            <p:nvPr/>
          </p:nvGrpSpPr>
          <p:grpSpPr>
            <a:xfrm>
              <a:off x="8697600" y="2104920"/>
              <a:ext cx="460440" cy="3971520"/>
              <a:chOff x="8697600" y="2104920"/>
              <a:chExt cx="460440" cy="3971520"/>
            </a:xfrm>
          </p:grpSpPr>
          <p:sp>
            <p:nvSpPr>
              <p:cNvPr id="3855" name=""/>
              <p:cNvSpPr/>
              <p:nvPr/>
            </p:nvSpPr>
            <p:spPr>
              <a:xfrm>
                <a:off x="8718120" y="58453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8721360" y="5649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8718120" y="52563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8718120" y="5059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8718120" y="48639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8718120" y="4667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8718120" y="4470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8718120" y="4273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8718120" y="4076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8705880" y="388152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8705880" y="3684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8701200" y="348156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8705880" y="308772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8697960" y="289260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8697600" y="26956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8697600" y="2498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8697600" y="2301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8697600" y="2104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73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"/>
          <p:cNvSpPr/>
          <p:nvPr/>
        </p:nvSpPr>
        <p:spPr>
          <a:xfrm>
            <a:off x="3951360" y="33512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"/>
          <p:cNvSpPr/>
          <p:nvPr/>
        </p:nvSpPr>
        <p:spPr>
          <a:xfrm>
            <a:off x="2759040" y="1109520"/>
            <a:ext cx="3027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nd exchange : Read the oper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"/>
          <p:cNvSpPr/>
          <p:nvPr/>
        </p:nvSpPr>
        <p:spPr>
          <a:xfrm>
            <a:off x="1843200" y="362268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"/>
          <p:cNvSpPr/>
          <p:nvPr/>
        </p:nvSpPr>
        <p:spPr>
          <a:xfrm>
            <a:off x="474840" y="3608280"/>
            <a:ext cx="46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"/>
          <p:cNvSpPr/>
          <p:nvPr/>
        </p:nvSpPr>
        <p:spPr>
          <a:xfrm>
            <a:off x="917640" y="547380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"/>
          <p:cNvSpPr/>
          <p:nvPr/>
        </p:nvSpPr>
        <p:spPr>
          <a:xfrm>
            <a:off x="8066160" y="50720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"/>
          <p:cNvSpPr/>
          <p:nvPr/>
        </p:nvSpPr>
        <p:spPr>
          <a:xfrm>
            <a:off x="8086680" y="488484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5673600" y="24415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"/>
          <p:cNvSpPr/>
          <p:nvPr/>
        </p:nvSpPr>
        <p:spPr>
          <a:xfrm>
            <a:off x="8737560" y="4781520"/>
            <a:ext cx="392040" cy="417600"/>
          </a:xfrm>
          <a:prstGeom prst="leftArrow">
            <a:avLst>
              <a:gd name="adj1" fmla="val 50000"/>
              <a:gd name="adj2" fmla="val 25000"/>
            </a:avLst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"/>
          <p:cNvSpPr/>
          <p:nvPr/>
        </p:nvSpPr>
        <p:spPr>
          <a:xfrm>
            <a:off x="5726160" y="633744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"/>
          <p:cNvSpPr/>
          <p:nvPr/>
        </p:nvSpPr>
        <p:spPr>
          <a:xfrm>
            <a:off x="425520" y="633564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"/>
          <p:cNvSpPr/>
          <p:nvPr/>
        </p:nvSpPr>
        <p:spPr>
          <a:xfrm>
            <a:off x="3967200" y="519120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3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3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3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79BC4-86E6-462E-A117-49A1A44D84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7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3898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1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5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3906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2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4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3915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1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3922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4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5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3926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1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3932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8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3939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6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3947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49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3950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1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2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3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54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8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3959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3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7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8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3969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3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6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3977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1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5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3986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0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3991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5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"/>
          <p:cNvSpPr/>
          <p:nvPr/>
        </p:nvSpPr>
        <p:spPr>
          <a:xfrm>
            <a:off x="1644480" y="534960"/>
            <a:ext cx="522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SUB A, # $2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5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4026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0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4031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5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7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9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4040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5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4046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51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2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3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4054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8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9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4060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3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4064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0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4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4075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9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0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4081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7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4088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4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4095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0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2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4103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9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2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3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14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8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4119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2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5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1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7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4138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0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4151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3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4154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72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"/>
          <p:cNvSpPr/>
          <p:nvPr/>
        </p:nvSpPr>
        <p:spPr>
          <a:xfrm>
            <a:off x="3951360" y="33512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"/>
          <p:cNvSpPr/>
          <p:nvPr/>
        </p:nvSpPr>
        <p:spPr>
          <a:xfrm>
            <a:off x="2759040" y="1109520"/>
            <a:ext cx="3027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Subtraction of oper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"/>
          <p:cNvSpPr/>
          <p:nvPr/>
        </p:nvSpPr>
        <p:spPr>
          <a:xfrm>
            <a:off x="1843200" y="362268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"/>
          <p:cNvSpPr/>
          <p:nvPr/>
        </p:nvSpPr>
        <p:spPr>
          <a:xfrm>
            <a:off x="474840" y="3608280"/>
            <a:ext cx="46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"/>
          <p:cNvSpPr/>
          <p:nvPr/>
        </p:nvSpPr>
        <p:spPr>
          <a:xfrm>
            <a:off x="8066160" y="50720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"/>
          <p:cNvSpPr/>
          <p:nvPr/>
        </p:nvSpPr>
        <p:spPr>
          <a:xfrm>
            <a:off x="8086680" y="488484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"/>
          <p:cNvSpPr/>
          <p:nvPr/>
        </p:nvSpPr>
        <p:spPr>
          <a:xfrm>
            <a:off x="5673600" y="24415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"/>
          <p:cNvSpPr/>
          <p:nvPr/>
        </p:nvSpPr>
        <p:spPr>
          <a:xfrm>
            <a:off x="1225440" y="584676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0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"/>
          <p:cNvSpPr/>
          <p:nvPr/>
        </p:nvSpPr>
        <p:spPr>
          <a:xfrm>
            <a:off x="917640" y="547380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9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4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58215-110E-4D0D-8C9F-C5B2929067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3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4194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7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1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4202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8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0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4211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7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4218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0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1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4222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7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4228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4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4235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2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4243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45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4246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7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8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9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250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4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4255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9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4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4265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9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2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4273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7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1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4282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6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4287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1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5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"/>
          <p:cNvSpPr/>
          <p:nvPr/>
        </p:nvSpPr>
        <p:spPr>
          <a:xfrm>
            <a:off x="1644480" y="534960"/>
            <a:ext cx="522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SUB A, # $2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1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4322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6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4327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1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3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5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4336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1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4342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7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8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9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4350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4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5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4356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9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4360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6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0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4371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5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6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4377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3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4384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8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0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4391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6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8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4399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5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9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10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4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4415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1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3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4434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6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4447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9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4450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68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9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0" name=""/>
          <p:cNvSpPr/>
          <p:nvPr/>
        </p:nvSpPr>
        <p:spPr>
          <a:xfrm>
            <a:off x="3951360" y="33512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1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2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4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5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6" name=""/>
          <p:cNvSpPr/>
          <p:nvPr/>
        </p:nvSpPr>
        <p:spPr>
          <a:xfrm>
            <a:off x="2244600" y="1109520"/>
            <a:ext cx="3878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Subtraction $25 from the contents of the accumula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7" name=""/>
          <p:cNvSpPr/>
          <p:nvPr/>
        </p:nvSpPr>
        <p:spPr>
          <a:xfrm>
            <a:off x="474840" y="3608280"/>
            <a:ext cx="46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8" name=""/>
          <p:cNvSpPr/>
          <p:nvPr/>
        </p:nvSpPr>
        <p:spPr>
          <a:xfrm>
            <a:off x="8066160" y="50720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9" name=""/>
          <p:cNvSpPr/>
          <p:nvPr/>
        </p:nvSpPr>
        <p:spPr>
          <a:xfrm>
            <a:off x="8086680" y="488484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"/>
          <p:cNvSpPr/>
          <p:nvPr/>
        </p:nvSpPr>
        <p:spPr>
          <a:xfrm>
            <a:off x="5673600" y="24415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1" name=""/>
          <p:cNvSpPr/>
          <p:nvPr/>
        </p:nvSpPr>
        <p:spPr>
          <a:xfrm>
            <a:off x="1225440" y="584676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0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"/>
          <p:cNvSpPr/>
          <p:nvPr/>
        </p:nvSpPr>
        <p:spPr>
          <a:xfrm>
            <a:off x="1855800" y="36259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0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3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4" name=""/>
          <p:cNvSpPr/>
          <p:nvPr/>
        </p:nvSpPr>
        <p:spPr>
          <a:xfrm>
            <a:off x="46836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EXECUTION OF STM8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5" name=""/>
          <p:cNvSpPr/>
          <p:nvPr/>
        </p:nvSpPr>
        <p:spPr>
          <a:xfrm>
            <a:off x="1587240" y="2428920"/>
            <a:ext cx="6523560" cy="23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xecution of  SUB  A,  # $25 is achiev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Program counter is ready with the address of the next 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Instruction register contains yet the op code of the achieved  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Accumulator contains  the result :  $0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CARRY flag is reset  because the value is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When a larger number is subtracted from a smaller one, the Carry flag indicates a borr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orrow = / Car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6" name=""/>
          <p:cNvSpPr/>
          <p:nvPr/>
        </p:nvSpPr>
        <p:spPr>
          <a:xfrm>
            <a:off x="3714480" y="1809720"/>
            <a:ext cx="14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SUB A, # $2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7" name=""/>
          <p:cNvSpPr/>
          <p:nvPr/>
        </p:nvSpPr>
        <p:spPr>
          <a:xfrm>
            <a:off x="1870200" y="4849920"/>
            <a:ext cx="5254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’s complement method is us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31          -&gt;        0011  0001                           0011  000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5          -&gt;        0010  0101                      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- 25         -&gt;        1101  1011                           1101  1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C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-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            0000  1100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0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4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4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EXECUTION OF STM8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9" name=""/>
          <p:cNvSpPr/>
          <p:nvPr/>
        </p:nvSpPr>
        <p:spPr>
          <a:xfrm>
            <a:off x="847800" y="2057400"/>
            <a:ext cx="7772400" cy="419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Action to be performed by the processor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dd the memory location value pointed by X to the accu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embly instruction: 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ADD  A,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achine instruction: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   F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1 byte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Indexed without offset addressing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0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06BE5-AB58-4831-9FF8-7F57C75133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1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2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3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4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4495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8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9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0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2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4503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9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1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4512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8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4519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1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2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4523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8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4529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5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4536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3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4544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46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4547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8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9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0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51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5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4556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0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1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2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3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4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5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4566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0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3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4574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8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9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0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1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2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4583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7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4588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2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3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4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5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7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8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9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0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1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2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4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5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6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7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8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9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0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1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2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3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4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5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6" name=""/>
          <p:cNvSpPr/>
          <p:nvPr/>
        </p:nvSpPr>
        <p:spPr>
          <a:xfrm>
            <a:off x="1785960" y="534960"/>
            <a:ext cx="494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ADD A, 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7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9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1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2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4623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27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4628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2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4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6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4637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2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4643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8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9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0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4651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5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6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4657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0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4661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7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9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1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4672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4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6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7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4678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4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4685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1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4692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7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9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4700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1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6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7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0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1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2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5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4716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9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2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3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4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5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6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7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8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9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0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1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2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3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4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4735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7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4748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0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4751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69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0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1" name=""/>
          <p:cNvSpPr/>
          <p:nvPr/>
        </p:nvSpPr>
        <p:spPr>
          <a:xfrm>
            <a:off x="3951360" y="3351240"/>
            <a:ext cx="366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F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2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3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4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5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"/>
          <p:cNvSpPr/>
          <p:nvPr/>
        </p:nvSpPr>
        <p:spPr>
          <a:xfrm>
            <a:off x="2759040" y="1109520"/>
            <a:ext cx="3027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1rst exchange : Op Code Fet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"/>
          <p:cNvSpPr/>
          <p:nvPr/>
        </p:nvSpPr>
        <p:spPr>
          <a:xfrm>
            <a:off x="493560" y="35989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"/>
          <p:cNvSpPr/>
          <p:nvPr/>
        </p:nvSpPr>
        <p:spPr>
          <a:xfrm>
            <a:off x="8066160" y="50720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"/>
          <p:cNvSpPr/>
          <p:nvPr/>
        </p:nvSpPr>
        <p:spPr>
          <a:xfrm>
            <a:off x="8086680" y="488484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"/>
          <p:cNvSpPr/>
          <p:nvPr/>
        </p:nvSpPr>
        <p:spPr>
          <a:xfrm>
            <a:off x="5662440" y="245268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"/>
          <p:cNvSpPr/>
          <p:nvPr/>
        </p:nvSpPr>
        <p:spPr>
          <a:xfrm>
            <a:off x="8737560" y="4591080"/>
            <a:ext cx="392040" cy="417600"/>
          </a:xfrm>
          <a:prstGeom prst="leftArrow">
            <a:avLst>
              <a:gd name="adj1" fmla="val 50000"/>
              <a:gd name="adj2" fmla="val 25000"/>
            </a:avLst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"/>
          <p:cNvSpPr/>
          <p:nvPr/>
        </p:nvSpPr>
        <p:spPr>
          <a:xfrm>
            <a:off x="4548240" y="54975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1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"/>
          <p:cNvSpPr/>
          <p:nvPr/>
        </p:nvSpPr>
        <p:spPr>
          <a:xfrm>
            <a:off x="8096400" y="4667400"/>
            <a:ext cx="366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F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"/>
          <p:cNvSpPr/>
          <p:nvPr/>
        </p:nvSpPr>
        <p:spPr>
          <a:xfrm>
            <a:off x="1855800" y="36259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0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"/>
          <p:cNvSpPr/>
          <p:nvPr/>
        </p:nvSpPr>
        <p:spPr>
          <a:xfrm>
            <a:off x="1208160" y="58579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0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"/>
          <p:cNvSpPr/>
          <p:nvPr/>
        </p:nvSpPr>
        <p:spPr>
          <a:xfrm>
            <a:off x="6634080" y="318276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F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"/>
          <p:cNvSpPr/>
          <p:nvPr/>
        </p:nvSpPr>
        <p:spPr>
          <a:xfrm>
            <a:off x="6063840" y="3211560"/>
            <a:ext cx="38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3333cc"/>
                </a:solidFill>
                <a:latin typeface="Arial"/>
              </a:rPr>
              <a:t>1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4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4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E09BF-F616-4231-B9E0-41A388C0BC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4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4795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8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9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0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2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4803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9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1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4812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8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4819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1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2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4823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6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8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4829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5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4836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3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4844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46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4847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8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9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0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51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2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3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5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4856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0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1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2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5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4866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0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1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2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3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4874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8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9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0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1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2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4883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7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4888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2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3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4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5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6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7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8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9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0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1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2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3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4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5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6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8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9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0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1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2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3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4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5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6" name=""/>
          <p:cNvSpPr/>
          <p:nvPr/>
        </p:nvSpPr>
        <p:spPr>
          <a:xfrm>
            <a:off x="1785960" y="534960"/>
            <a:ext cx="494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ADD A, 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7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8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9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0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1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2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4923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7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4928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32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4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5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6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4937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2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4943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8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9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0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4951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5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6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4957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9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0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4961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2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7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8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9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0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1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4972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6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7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4978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4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4985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1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4992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7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8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9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5000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6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7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8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9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10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11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2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3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4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5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5016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2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3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4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5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6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7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8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9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0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1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2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3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4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5035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7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5048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0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5051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69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0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1" name=""/>
          <p:cNvSpPr/>
          <p:nvPr/>
        </p:nvSpPr>
        <p:spPr>
          <a:xfrm>
            <a:off x="3951360" y="3351240"/>
            <a:ext cx="366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F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2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3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4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5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6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7" name=""/>
          <p:cNvSpPr/>
          <p:nvPr/>
        </p:nvSpPr>
        <p:spPr>
          <a:xfrm>
            <a:off x="2759040" y="1109520"/>
            <a:ext cx="3027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nd exchange : Read the oper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8" name=""/>
          <p:cNvSpPr/>
          <p:nvPr/>
        </p:nvSpPr>
        <p:spPr>
          <a:xfrm>
            <a:off x="493560" y="361008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F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9" name=""/>
          <p:cNvSpPr/>
          <p:nvPr/>
        </p:nvSpPr>
        <p:spPr>
          <a:xfrm>
            <a:off x="8066160" y="50720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0" name=""/>
          <p:cNvSpPr/>
          <p:nvPr/>
        </p:nvSpPr>
        <p:spPr>
          <a:xfrm>
            <a:off x="8086680" y="488484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1" name=""/>
          <p:cNvSpPr/>
          <p:nvPr/>
        </p:nvSpPr>
        <p:spPr>
          <a:xfrm>
            <a:off x="5649840" y="245268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1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2" name=""/>
          <p:cNvSpPr/>
          <p:nvPr/>
        </p:nvSpPr>
        <p:spPr>
          <a:xfrm>
            <a:off x="6039000" y="3117960"/>
            <a:ext cx="379440" cy="399960"/>
          </a:xfrm>
          <a:prstGeom prst="rightArrow">
            <a:avLst>
              <a:gd name="adj1" fmla="val 50000"/>
              <a:gd name="adj2" fmla="val 25000"/>
            </a:avLst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3" name=""/>
          <p:cNvSpPr/>
          <p:nvPr/>
        </p:nvSpPr>
        <p:spPr>
          <a:xfrm>
            <a:off x="5945040" y="3191040"/>
            <a:ext cx="524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3333cc"/>
                </a:solidFill>
                <a:latin typeface="Arial"/>
              </a:rPr>
              <a:t>1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4" name=""/>
          <p:cNvSpPr/>
          <p:nvPr/>
        </p:nvSpPr>
        <p:spPr>
          <a:xfrm>
            <a:off x="4548240" y="54975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1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5" name=""/>
          <p:cNvSpPr/>
          <p:nvPr/>
        </p:nvSpPr>
        <p:spPr>
          <a:xfrm>
            <a:off x="8096400" y="4667400"/>
            <a:ext cx="366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F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6" name=""/>
          <p:cNvSpPr/>
          <p:nvPr/>
        </p:nvSpPr>
        <p:spPr>
          <a:xfrm>
            <a:off x="1855800" y="36259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0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7" name=""/>
          <p:cNvSpPr/>
          <p:nvPr/>
        </p:nvSpPr>
        <p:spPr>
          <a:xfrm>
            <a:off x="1208160" y="58579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0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8" name=""/>
          <p:cNvSpPr/>
          <p:nvPr/>
        </p:nvSpPr>
        <p:spPr>
          <a:xfrm>
            <a:off x="6634080" y="318276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F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9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5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0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5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5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0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24012-697C-42A0-97D5-3AF3A58A91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1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2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3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4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5095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8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9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0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1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2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5103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9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0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1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5112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5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8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5119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1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2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5123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5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6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983880" y="4815000"/>
              <a:ext cx="7930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8 bit Arithmetic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9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5130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1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2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4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5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6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5137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9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0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4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5145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47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5148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9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0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1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152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3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4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5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6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5157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8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0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1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2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3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4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5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6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5167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1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2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3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4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5175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9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0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1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2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3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5184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8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5189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3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4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5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6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7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8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9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0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1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2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3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4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5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6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7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8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9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0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1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2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3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4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5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6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7" name=""/>
          <p:cNvSpPr/>
          <p:nvPr/>
        </p:nvSpPr>
        <p:spPr>
          <a:xfrm>
            <a:off x="1785960" y="534960"/>
            <a:ext cx="494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ADD A, 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8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9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0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1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2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3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5224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5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8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5229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3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5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6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7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5238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2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3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5244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9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0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1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5252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6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7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5258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1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5262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8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9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0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1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2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5273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7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8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5279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5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5286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2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5293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8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9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0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5301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5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7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8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9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0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11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2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3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4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5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6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5317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3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4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5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6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7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8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9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0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1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2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3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5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5336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8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5349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51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5352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70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"/>
          <p:cNvSpPr/>
          <p:nvPr/>
        </p:nvSpPr>
        <p:spPr>
          <a:xfrm>
            <a:off x="3951360" y="3351240"/>
            <a:ext cx="366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F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4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5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6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7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8" name=""/>
          <p:cNvSpPr/>
          <p:nvPr/>
        </p:nvSpPr>
        <p:spPr>
          <a:xfrm>
            <a:off x="2759040" y="1109520"/>
            <a:ext cx="3027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ddition of oper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9" name=""/>
          <p:cNvSpPr/>
          <p:nvPr/>
        </p:nvSpPr>
        <p:spPr>
          <a:xfrm>
            <a:off x="493560" y="361476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F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0" name=""/>
          <p:cNvSpPr/>
          <p:nvPr/>
        </p:nvSpPr>
        <p:spPr>
          <a:xfrm>
            <a:off x="8066160" y="50720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1" name=""/>
          <p:cNvSpPr/>
          <p:nvPr/>
        </p:nvSpPr>
        <p:spPr>
          <a:xfrm>
            <a:off x="8086680" y="488484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2" name=""/>
          <p:cNvSpPr/>
          <p:nvPr/>
        </p:nvSpPr>
        <p:spPr>
          <a:xfrm>
            <a:off x="5673600" y="24415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1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3" name=""/>
          <p:cNvSpPr/>
          <p:nvPr/>
        </p:nvSpPr>
        <p:spPr>
          <a:xfrm>
            <a:off x="4548240" y="54975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1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4" name=""/>
          <p:cNvSpPr/>
          <p:nvPr/>
        </p:nvSpPr>
        <p:spPr>
          <a:xfrm>
            <a:off x="8096400" y="4667400"/>
            <a:ext cx="366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F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5" name=""/>
          <p:cNvSpPr/>
          <p:nvPr/>
        </p:nvSpPr>
        <p:spPr>
          <a:xfrm>
            <a:off x="1855800" y="36259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0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6" name=""/>
          <p:cNvSpPr/>
          <p:nvPr/>
        </p:nvSpPr>
        <p:spPr>
          <a:xfrm>
            <a:off x="1255680" y="58579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7" name=""/>
          <p:cNvSpPr/>
          <p:nvPr/>
        </p:nvSpPr>
        <p:spPr>
          <a:xfrm>
            <a:off x="6634080" y="318276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F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8" name=""/>
          <p:cNvSpPr/>
          <p:nvPr/>
        </p:nvSpPr>
        <p:spPr>
          <a:xfrm>
            <a:off x="6063840" y="3211560"/>
            <a:ext cx="38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3333cc"/>
                </a:solidFill>
                <a:latin typeface="Arial"/>
              </a:rPr>
              <a:t>1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9" name=""/>
          <p:cNvSpPr/>
          <p:nvPr/>
        </p:nvSpPr>
        <p:spPr>
          <a:xfrm>
            <a:off x="766800" y="5473800"/>
            <a:ext cx="25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0" name=""/>
          <p:cNvSpPr/>
          <p:nvPr/>
        </p:nvSpPr>
        <p:spPr>
          <a:xfrm>
            <a:off x="917640" y="548640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610506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5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5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1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353D2-EBD0-4700-AD4E-37CB3E211A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2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3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4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5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5396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9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0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1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2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3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5404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0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1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2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5413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9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5420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2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3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5424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9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5430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5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6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5437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9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0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4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5445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47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5448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9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0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1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52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3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4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5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6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5457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1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2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3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4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5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6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5467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8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1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2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3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4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5475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9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0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1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2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3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5484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8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5489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3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4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5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6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7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8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9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0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1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2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3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4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5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6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7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8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9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0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1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2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3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4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5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6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7" name=""/>
          <p:cNvSpPr/>
          <p:nvPr/>
        </p:nvSpPr>
        <p:spPr>
          <a:xfrm>
            <a:off x="1785960" y="534960"/>
            <a:ext cx="494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ADD A, 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8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9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0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1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2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3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5524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5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6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8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5529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3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5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6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7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5538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1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3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5544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9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0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1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5552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3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5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6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7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5558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1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5562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8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9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0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1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2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5573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5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6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7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8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5579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0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2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3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4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5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5586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7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8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0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1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2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5593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8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9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0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5601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2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3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6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7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8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9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0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11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12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3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4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5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6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5617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8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0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1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2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3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4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5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6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7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8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9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0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1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2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3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4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5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5636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8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5649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1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5652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70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1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2" name=""/>
          <p:cNvSpPr/>
          <p:nvPr/>
        </p:nvSpPr>
        <p:spPr>
          <a:xfrm>
            <a:off x="3951360" y="3351240"/>
            <a:ext cx="366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F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3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4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5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6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7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8" name=""/>
          <p:cNvSpPr/>
          <p:nvPr/>
        </p:nvSpPr>
        <p:spPr>
          <a:xfrm>
            <a:off x="2759040" y="1109520"/>
            <a:ext cx="3027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ddition of oper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9" name=""/>
          <p:cNvSpPr/>
          <p:nvPr/>
        </p:nvSpPr>
        <p:spPr>
          <a:xfrm>
            <a:off x="493560" y="361476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F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0" name=""/>
          <p:cNvSpPr/>
          <p:nvPr/>
        </p:nvSpPr>
        <p:spPr>
          <a:xfrm>
            <a:off x="8066160" y="50720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1" name=""/>
          <p:cNvSpPr/>
          <p:nvPr/>
        </p:nvSpPr>
        <p:spPr>
          <a:xfrm>
            <a:off x="8086680" y="488484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2" name=""/>
          <p:cNvSpPr/>
          <p:nvPr/>
        </p:nvSpPr>
        <p:spPr>
          <a:xfrm>
            <a:off x="5673600" y="24415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1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3" name=""/>
          <p:cNvSpPr/>
          <p:nvPr/>
        </p:nvSpPr>
        <p:spPr>
          <a:xfrm>
            <a:off x="4548240" y="54975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1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4" name=""/>
          <p:cNvSpPr/>
          <p:nvPr/>
        </p:nvSpPr>
        <p:spPr>
          <a:xfrm>
            <a:off x="8096400" y="4667400"/>
            <a:ext cx="366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F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5" name=""/>
          <p:cNvSpPr/>
          <p:nvPr/>
        </p:nvSpPr>
        <p:spPr>
          <a:xfrm>
            <a:off x="1855800" y="36259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6" name=""/>
          <p:cNvSpPr/>
          <p:nvPr/>
        </p:nvSpPr>
        <p:spPr>
          <a:xfrm>
            <a:off x="1255680" y="58579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7" name=""/>
          <p:cNvSpPr/>
          <p:nvPr/>
        </p:nvSpPr>
        <p:spPr>
          <a:xfrm>
            <a:off x="6634080" y="318276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F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8" name=""/>
          <p:cNvSpPr/>
          <p:nvPr/>
        </p:nvSpPr>
        <p:spPr>
          <a:xfrm>
            <a:off x="6063840" y="3211560"/>
            <a:ext cx="38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3333cc"/>
                </a:solidFill>
                <a:latin typeface="Arial"/>
              </a:rPr>
              <a:t>1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9" name=""/>
          <p:cNvSpPr/>
          <p:nvPr/>
        </p:nvSpPr>
        <p:spPr>
          <a:xfrm>
            <a:off x="766800" y="5473800"/>
            <a:ext cx="25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0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1" name=""/>
          <p:cNvSpPr/>
          <p:nvPr/>
        </p:nvSpPr>
        <p:spPr>
          <a:xfrm>
            <a:off x="917640" y="548640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610506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2" name=""/>
          <p:cNvSpPr/>
          <p:nvPr/>
        </p:nvSpPr>
        <p:spPr>
          <a:xfrm>
            <a:off x="46836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EXECUTION OF STM8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3" name=""/>
          <p:cNvSpPr/>
          <p:nvPr/>
        </p:nvSpPr>
        <p:spPr>
          <a:xfrm>
            <a:off x="2412720" y="2706840"/>
            <a:ext cx="6523560" cy="27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xecution of  ADD A, (X) is achieved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Program counter is ready with the address of the next 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Instruction register contains yet the op code of the achieved 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Accumulator contains the sum : 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ZERO flag is set  because the result  is equal to z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C flag is set because the result is over 0x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Data bus is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4" name=""/>
          <p:cNvSpPr/>
          <p:nvPr/>
        </p:nvSpPr>
        <p:spPr>
          <a:xfrm>
            <a:off x="3713040" y="186696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ADD A, (X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5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5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EXECUTION OF STM8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47800" y="2057400"/>
            <a:ext cx="7772400" cy="3905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Action to be performed by the processor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py the address 8 content into the accu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embly instruction: 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LD A, $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achine instruction: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   B6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 bytes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Direct addressing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EXECUTION OF STM8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6" name=""/>
          <p:cNvSpPr/>
          <p:nvPr/>
        </p:nvSpPr>
        <p:spPr>
          <a:xfrm>
            <a:off x="847800" y="2057400"/>
            <a:ext cx="7772400" cy="3905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Action to be performed by the processor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crement the content of X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embly instruction: 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INCW 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achine instruction: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   5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1 byte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Inherent addressing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7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1B71B-54D7-4148-9523-3A4810578C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8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9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0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1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5702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5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7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8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9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5710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2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6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7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8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5719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2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5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5726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8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9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5730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2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3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983880" y="4815000"/>
              <a:ext cx="7930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8 bit Arithmetic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6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5737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9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3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5744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6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1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5752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54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5755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6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7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8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59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0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1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2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3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5764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5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8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9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0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1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2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3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5774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5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6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8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9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0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1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5782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6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7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8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9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0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5791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5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5796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0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1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2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3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4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5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6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7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8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9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0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1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2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3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4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5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6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7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8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9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0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1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2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3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4" name=""/>
          <p:cNvSpPr/>
          <p:nvPr/>
        </p:nvSpPr>
        <p:spPr>
          <a:xfrm>
            <a:off x="1931760" y="534960"/>
            <a:ext cx="465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INCW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5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6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7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8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9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0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5831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2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3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35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5836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0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2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3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4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5845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8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9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0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5851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56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7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8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5859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0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3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4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5865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8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5869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5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6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7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8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9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5880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4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5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5886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7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9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2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5893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5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8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9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5900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5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6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7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5908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9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0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2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3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4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5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6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7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18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19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0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1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2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3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5924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5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7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8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9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0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1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2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3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4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5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6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7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8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9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0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1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2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5943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5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5956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58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5959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77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8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9" name=""/>
          <p:cNvSpPr/>
          <p:nvPr/>
        </p:nvSpPr>
        <p:spPr>
          <a:xfrm>
            <a:off x="3951360" y="33512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5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0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1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2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3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4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5" name=""/>
          <p:cNvSpPr/>
          <p:nvPr/>
        </p:nvSpPr>
        <p:spPr>
          <a:xfrm>
            <a:off x="2759040" y="1109520"/>
            <a:ext cx="3027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1rst exchange : Op Code Fet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6" name=""/>
          <p:cNvSpPr/>
          <p:nvPr/>
        </p:nvSpPr>
        <p:spPr>
          <a:xfrm>
            <a:off x="493560" y="361476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F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7" name=""/>
          <p:cNvSpPr/>
          <p:nvPr/>
        </p:nvSpPr>
        <p:spPr>
          <a:xfrm>
            <a:off x="8066160" y="50720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8" name=""/>
          <p:cNvSpPr/>
          <p:nvPr/>
        </p:nvSpPr>
        <p:spPr>
          <a:xfrm>
            <a:off x="8086680" y="488484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9" name=""/>
          <p:cNvSpPr/>
          <p:nvPr/>
        </p:nvSpPr>
        <p:spPr>
          <a:xfrm>
            <a:off x="5673600" y="24415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0" name=""/>
          <p:cNvSpPr/>
          <p:nvPr/>
        </p:nvSpPr>
        <p:spPr>
          <a:xfrm>
            <a:off x="4548240" y="54975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1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1" name=""/>
          <p:cNvSpPr/>
          <p:nvPr/>
        </p:nvSpPr>
        <p:spPr>
          <a:xfrm>
            <a:off x="8096400" y="4667400"/>
            <a:ext cx="366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F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2" name=""/>
          <p:cNvSpPr/>
          <p:nvPr/>
        </p:nvSpPr>
        <p:spPr>
          <a:xfrm>
            <a:off x="1855800" y="36259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3" name=""/>
          <p:cNvSpPr/>
          <p:nvPr/>
        </p:nvSpPr>
        <p:spPr>
          <a:xfrm>
            <a:off x="1255680" y="58579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4" name=""/>
          <p:cNvSpPr/>
          <p:nvPr/>
        </p:nvSpPr>
        <p:spPr>
          <a:xfrm>
            <a:off x="6634080" y="318276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F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5" name=""/>
          <p:cNvSpPr/>
          <p:nvPr/>
        </p:nvSpPr>
        <p:spPr>
          <a:xfrm>
            <a:off x="6063840" y="3211560"/>
            <a:ext cx="38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3333cc"/>
                </a:solidFill>
                <a:latin typeface="Arial"/>
              </a:rPr>
              <a:t>1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6" name=""/>
          <p:cNvSpPr/>
          <p:nvPr/>
        </p:nvSpPr>
        <p:spPr>
          <a:xfrm>
            <a:off x="766800" y="5473800"/>
            <a:ext cx="25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7" name=""/>
          <p:cNvSpPr/>
          <p:nvPr/>
        </p:nvSpPr>
        <p:spPr>
          <a:xfrm>
            <a:off x="8086680" y="44766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5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8" name=""/>
          <p:cNvSpPr/>
          <p:nvPr/>
        </p:nvSpPr>
        <p:spPr>
          <a:xfrm>
            <a:off x="8737560" y="4400640"/>
            <a:ext cx="392040" cy="417600"/>
          </a:xfrm>
          <a:prstGeom prst="leftArrow">
            <a:avLst>
              <a:gd name="adj1" fmla="val 50000"/>
              <a:gd name="adj2" fmla="val 25000"/>
            </a:avLst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9" name=""/>
          <p:cNvSpPr/>
          <p:nvPr/>
        </p:nvSpPr>
        <p:spPr>
          <a:xfrm>
            <a:off x="2846520" y="539892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5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0" name=""/>
          <p:cNvSpPr/>
          <p:nvPr/>
        </p:nvSpPr>
        <p:spPr>
          <a:xfrm>
            <a:off x="5800680" y="63324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5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1" name=""/>
          <p:cNvSpPr/>
          <p:nvPr/>
        </p:nvSpPr>
        <p:spPr>
          <a:xfrm>
            <a:off x="917640" y="548640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610506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5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7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5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5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6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5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2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DDEC5-DEB0-4A11-95A5-0C01F1DB4A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3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4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5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6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6007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0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1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2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3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4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6015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7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1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2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3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6024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0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6031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3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4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6035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7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8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983880" y="4815000"/>
              <a:ext cx="7930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8 bit Arithmetic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1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6042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3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4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6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7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8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6049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1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2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6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6057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9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6060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1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2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3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64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5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6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7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8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6069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0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2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3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4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5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6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7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8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6079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0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1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3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4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5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6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6087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1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2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3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4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5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6096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0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6101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5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6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7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8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9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0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1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2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3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4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5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6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7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8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9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0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1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2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3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4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5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6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7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8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9" name=""/>
          <p:cNvSpPr/>
          <p:nvPr/>
        </p:nvSpPr>
        <p:spPr>
          <a:xfrm>
            <a:off x="1931760" y="534960"/>
            <a:ext cx="465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INCW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0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1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2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3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4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5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6136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7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8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40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6141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45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7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8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9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6150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4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5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6156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1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2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3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6164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5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7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8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9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6170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2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3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6174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5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6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7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9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0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1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2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3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4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6185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7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8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9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0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6191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2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4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5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6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7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6198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9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0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2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3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4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6205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0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1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2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6213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4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5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7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8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9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0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1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2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23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24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5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6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7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8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6229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0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2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3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4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5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6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7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8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9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0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1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2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3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4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5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6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7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6248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0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6261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3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6264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82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3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4" name=""/>
          <p:cNvSpPr/>
          <p:nvPr/>
        </p:nvSpPr>
        <p:spPr>
          <a:xfrm>
            <a:off x="3951360" y="33512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5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5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6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7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8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9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0" name=""/>
          <p:cNvSpPr/>
          <p:nvPr/>
        </p:nvSpPr>
        <p:spPr>
          <a:xfrm>
            <a:off x="2759040" y="1109520"/>
            <a:ext cx="3027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Increment the contents of X poi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1" name=""/>
          <p:cNvSpPr/>
          <p:nvPr/>
        </p:nvSpPr>
        <p:spPr>
          <a:xfrm>
            <a:off x="493560" y="361476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F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2" name=""/>
          <p:cNvSpPr/>
          <p:nvPr/>
        </p:nvSpPr>
        <p:spPr>
          <a:xfrm>
            <a:off x="8066160" y="50720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3" name=""/>
          <p:cNvSpPr/>
          <p:nvPr/>
        </p:nvSpPr>
        <p:spPr>
          <a:xfrm>
            <a:off x="8086680" y="488484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4" name=""/>
          <p:cNvSpPr/>
          <p:nvPr/>
        </p:nvSpPr>
        <p:spPr>
          <a:xfrm>
            <a:off x="5673600" y="24415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5" name=""/>
          <p:cNvSpPr/>
          <p:nvPr/>
        </p:nvSpPr>
        <p:spPr>
          <a:xfrm>
            <a:off x="4548240" y="54975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6" name=""/>
          <p:cNvSpPr/>
          <p:nvPr/>
        </p:nvSpPr>
        <p:spPr>
          <a:xfrm>
            <a:off x="8096400" y="4667400"/>
            <a:ext cx="366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F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7" name=""/>
          <p:cNvSpPr/>
          <p:nvPr/>
        </p:nvSpPr>
        <p:spPr>
          <a:xfrm>
            <a:off x="1855800" y="36259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8" name=""/>
          <p:cNvSpPr/>
          <p:nvPr/>
        </p:nvSpPr>
        <p:spPr>
          <a:xfrm>
            <a:off x="1255680" y="58579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9" name=""/>
          <p:cNvSpPr/>
          <p:nvPr/>
        </p:nvSpPr>
        <p:spPr>
          <a:xfrm>
            <a:off x="6634080" y="318276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F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0" name=""/>
          <p:cNvSpPr/>
          <p:nvPr/>
        </p:nvSpPr>
        <p:spPr>
          <a:xfrm>
            <a:off x="6063840" y="3211560"/>
            <a:ext cx="38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3333cc"/>
                </a:solidFill>
                <a:latin typeface="Arial"/>
              </a:rPr>
              <a:t>1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1" name=""/>
          <p:cNvSpPr/>
          <p:nvPr/>
        </p:nvSpPr>
        <p:spPr>
          <a:xfrm>
            <a:off x="766800" y="5473800"/>
            <a:ext cx="25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2" name=""/>
          <p:cNvSpPr/>
          <p:nvPr/>
        </p:nvSpPr>
        <p:spPr>
          <a:xfrm>
            <a:off x="8086680" y="44766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5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3" name=""/>
          <p:cNvSpPr/>
          <p:nvPr/>
        </p:nvSpPr>
        <p:spPr>
          <a:xfrm>
            <a:off x="8080200" y="4287960"/>
            <a:ext cx="35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8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4" name=""/>
          <p:cNvSpPr/>
          <p:nvPr/>
        </p:nvSpPr>
        <p:spPr>
          <a:xfrm>
            <a:off x="917640" y="548640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610506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9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6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5" name=""/>
          <p:cNvSpPr/>
          <p:nvPr/>
        </p:nvSpPr>
        <p:spPr>
          <a:xfrm>
            <a:off x="46836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EXECUTION OF STM8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6" name=""/>
          <p:cNvSpPr/>
          <p:nvPr/>
        </p:nvSpPr>
        <p:spPr>
          <a:xfrm>
            <a:off x="1195560" y="2670120"/>
            <a:ext cx="791352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xecution of  INCW  X is achieved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n order to perform this incrementation, a 16-bit adder is integrated to the Addressing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Noto Sans CJK SC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ZERO flag is resetted because the result ($200) is not equal to z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C flag keeps its previous state because INCW does not affect Carry 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7" name=""/>
          <p:cNvSpPr/>
          <p:nvPr/>
        </p:nvSpPr>
        <p:spPr>
          <a:xfrm>
            <a:off x="3715200" y="1866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INCW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8" name=""/>
          <p:cNvSpPr/>
          <p:nvPr/>
        </p:nvSpPr>
        <p:spPr>
          <a:xfrm>
            <a:off x="1955880" y="4059360"/>
            <a:ext cx="525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9" name=""/>
          <p:cNvSpPr/>
          <p:nvPr/>
        </p:nvSpPr>
        <p:spPr>
          <a:xfrm>
            <a:off x="1615680" y="4367160"/>
            <a:ext cx="499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ow is the the content of the Program Counter increment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0" name=""/>
          <p:cNvSpPr/>
          <p:nvPr/>
        </p:nvSpPr>
        <p:spPr>
          <a:xfrm>
            <a:off x="2855880" y="4875120"/>
            <a:ext cx="27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he same 16-bit adder is 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6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0" fill="hold"/>
                                        <p:tgtEl>
                                          <p:spTgt spid="6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1" name=""/>
          <p:cNvSpPr/>
          <p:nvPr/>
        </p:nvSpPr>
        <p:spPr>
          <a:xfrm>
            <a:off x="46836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EXECUTION OF STM8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2" name=""/>
          <p:cNvSpPr/>
          <p:nvPr/>
        </p:nvSpPr>
        <p:spPr>
          <a:xfrm>
            <a:off x="1870200" y="2670120"/>
            <a:ext cx="426384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D A, direc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               B6 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DD A, direc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               BB 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DD A, indexed without offse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UB A, immediat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                A0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per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CW  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                                  5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3" name=""/>
          <p:cNvSpPr/>
          <p:nvPr/>
        </p:nvSpPr>
        <p:spPr>
          <a:xfrm>
            <a:off x="3718080" y="186696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4" name=""/>
          <p:cNvSpPr/>
          <p:nvPr/>
        </p:nvSpPr>
        <p:spPr>
          <a:xfrm>
            <a:off x="1955880" y="4059360"/>
            <a:ext cx="525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5" name=""/>
          <p:cNvSpPr/>
          <p:nvPr/>
        </p:nvSpPr>
        <p:spPr>
          <a:xfrm>
            <a:off x="2855880" y="4875120"/>
            <a:ext cx="27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he same 16-bit adder is 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1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3000" fill="hold"/>
                                        <p:tgtEl>
                                          <p:spTgt spid="6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6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F3AB6-56E1-4EEC-9573-CDDD7D3DB6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348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356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365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372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376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382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389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397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9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400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4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409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419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427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436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441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808280" y="534960"/>
            <a:ext cx="489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LD A, $0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476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481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490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496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504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510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514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525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531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538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545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553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3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4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569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588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601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604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2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951360" y="33512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727600" y="63374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03440" y="633888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836800" y="454176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025800" y="1109520"/>
            <a:ext cx="239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1rst exchange : Op Code Fet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640480" y="24494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737560" y="5781600"/>
            <a:ext cx="392040" cy="417600"/>
          </a:xfrm>
          <a:prstGeom prst="leftArrow">
            <a:avLst>
              <a:gd name="adj1" fmla="val 50000"/>
              <a:gd name="adj2" fmla="val 25000"/>
            </a:avLst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917640" y="54799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A3AA4-6598-4EF8-AAD9-5107BACBF7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643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651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660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667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671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677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684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692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4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695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99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704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714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722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731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736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808280" y="534960"/>
            <a:ext cx="489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LD A, $0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771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776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785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0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791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799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805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809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820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826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833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840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848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8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9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864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883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896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899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7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951360" y="33512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727600" y="633744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03440" y="633888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855880" y="45417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438280" y="1077840"/>
            <a:ext cx="361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nd exchange : Read the operand addre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640480" y="24494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8745480" y="5560920"/>
            <a:ext cx="393840" cy="417600"/>
          </a:xfrm>
          <a:prstGeom prst="leftArrow">
            <a:avLst>
              <a:gd name="adj1" fmla="val 50000"/>
              <a:gd name="adj2" fmla="val 25000"/>
            </a:avLst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3FFF5-AF7C-463B-8579-BEB8447329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937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0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945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954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961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965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971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978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986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8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989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93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998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1008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2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1016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1025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1030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808280" y="534960"/>
            <a:ext cx="489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LD A, $0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1065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1070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4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6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1079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4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1085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0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1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1093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1099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1103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9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1114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8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1120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1127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1134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1142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2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3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1158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1177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1190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2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1193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1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951360" y="33512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5727600" y="633744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703440" y="633888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2855880" y="45417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2438280" y="1077840"/>
            <a:ext cx="361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nd exchange : Read the operand addre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5640480" y="24494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C3E66-6BC0-4A1C-BF41-98EB700E2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1230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3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7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1238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6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1247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1254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6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1258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1264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1271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8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1279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1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1282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86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1291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5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0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1301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1309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3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1318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1323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7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808280" y="534960"/>
            <a:ext cx="489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LD A, $0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7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1358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1363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7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9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1372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7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1378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3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4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1386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0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1392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1396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2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6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1407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1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1413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1420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6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1427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2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4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1435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1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5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6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0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1451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9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1470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2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1483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1486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4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3951360" y="33512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5727600" y="63374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5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703440" y="633888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5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2846520" y="454176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5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3025800" y="1109520"/>
            <a:ext cx="239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3rd exchange : read the oper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640480" y="24494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843200" y="362268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6134040" y="4241880"/>
            <a:ext cx="285840" cy="399960"/>
          </a:xfrm>
          <a:prstGeom prst="rightArrow">
            <a:avLst>
              <a:gd name="adj1" fmla="val 50000"/>
              <a:gd name="adj2" fmla="val 25000"/>
            </a:avLst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8B00C-03BB-461C-AEC3-7B7E62002E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1525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2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1533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9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1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1542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1549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2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1553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8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1559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5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1566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3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1574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1577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81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1586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0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5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1596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0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3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1604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8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2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1613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7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1618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2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1808280" y="534960"/>
            <a:ext cx="489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LD A, $0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1653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7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1658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2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4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1667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2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1673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8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9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1681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5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6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1687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0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1691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7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1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1702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6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7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1708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1715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1722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7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9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1730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0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1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5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1746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2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4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1765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1778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0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1781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9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3951360" y="33512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3025800" y="1109520"/>
            <a:ext cx="239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Instruction is finish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5640480" y="24494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1843200" y="362268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6:09:06Z</dcterms:created>
  <dc:creator>Bernard GLOSSI</dc:creator>
  <dc:description/>
  <dc:language>en-US</dc:language>
  <cp:lastModifiedBy/>
  <dcterms:modified xsi:type="dcterms:W3CDTF">2019-09-17T16:12:04Z</dcterms:modified>
  <cp:revision>176</cp:revision>
  <dc:subject/>
  <dc:title>PROCESSEUR DU 8051</dc:title>
</cp:coreProperties>
</file>